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12.xml" ContentType="application/vnd.openxmlformats-officedocument.theme+xml"/>
  <Override PartName="/ppt/theme/theme36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start.wav" ContentType="audio/x-wav"/>
  <Override PartName="/ppt/media/image20.gif" ContentType="image/gif"/>
  <Override PartName="/ppt/media/image18.gif" ContentType="image/gif"/>
  <Override PartName="/ppt/media/image16.png" ContentType="image/png"/>
  <Override PartName="/ppt/media/image15.wmf" ContentType="image/x-wmf"/>
  <Override PartName="/ppt/media/image1.png" ContentType="image/png"/>
  <Override PartName="/ppt/media/image2.wmf" ContentType="image/x-wmf"/>
  <Override PartName="/ppt/media/image3.png" ContentType="image/png"/>
  <Override PartName="/ppt/media/image17.jpeg" ContentType="image/jpeg"/>
  <Override PartName="/ppt/media/image4.wmf" ContentType="image/x-wmf"/>
  <Override PartName="/ppt/media/image6.wmf" ContentType="image/x-wmf"/>
  <Override PartName="/ppt/media/image11.png" ContentType="image/png"/>
  <Override PartName="/ppt/media/image19.jpeg" ContentType="image/jpeg"/>
  <Override PartName="/ppt/media/image5.wmf" ContentType="image/x-wmf"/>
  <Override PartName="/ppt/media/image10.wmf" ContentType="image/x-wmf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sldIdLst>
    <p:sldId id="256" r:id="rId38"/>
    <p:sldId id="257" r:id="rId39"/>
    <p:sldId id="258" r:id="rId40"/>
    <p:sldId id="259" r:id="rId41"/>
    <p:sldId id="260" r:id="rId42"/>
    <p:sldId id="261" r:id="rId43"/>
    <p:sldId id="262" r:id="rId44"/>
    <p:sldId id="263" r:id="rId45"/>
    <p:sldId id="264" r:id="rId46"/>
    <p:sldId id="265" r:id="rId47"/>
    <p:sldId id="266" r:id="rId48"/>
    <p:sldId id="267" r:id="rId49"/>
    <p:sldId id="268" r:id="rId5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" Target="slides/slide1.xml"/><Relationship Id="rId39" Type="http://schemas.openxmlformats.org/officeDocument/2006/relationships/slide" Target="slides/slide2.xml"/><Relationship Id="rId40" Type="http://schemas.openxmlformats.org/officeDocument/2006/relationships/slide" Target="slides/slide3.xml"/><Relationship Id="rId41" Type="http://schemas.openxmlformats.org/officeDocument/2006/relationships/slide" Target="slides/slide4.xml"/><Relationship Id="rId42" Type="http://schemas.openxmlformats.org/officeDocument/2006/relationships/slide" Target="slides/slide5.xml"/><Relationship Id="rId43" Type="http://schemas.openxmlformats.org/officeDocument/2006/relationships/slide" Target="slides/slide6.xml"/><Relationship Id="rId44" Type="http://schemas.openxmlformats.org/officeDocument/2006/relationships/slide" Target="slides/slide7.xml"/><Relationship Id="rId45" Type="http://schemas.openxmlformats.org/officeDocument/2006/relationships/slide" Target="slides/slide8.xml"/><Relationship Id="rId46" Type="http://schemas.openxmlformats.org/officeDocument/2006/relationships/slide" Target="slides/slide9.xml"/><Relationship Id="rId47" Type="http://schemas.openxmlformats.org/officeDocument/2006/relationships/slide" Target="slides/slide10.xml"/><Relationship Id="rId48" Type="http://schemas.openxmlformats.org/officeDocument/2006/relationships/slide" Target="slides/slide11.xml"/><Relationship Id="rId49" Type="http://schemas.openxmlformats.org/officeDocument/2006/relationships/slide" Target="slides/slide12.xml"/><Relationship Id="rId50" Type="http://schemas.openxmlformats.org/officeDocument/2006/relationships/slide" Target="slides/slide13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CAC28-A31E-40B4-BAAA-5A0B903632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5FA5F-2DA3-417A-8048-8F23D9436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24A99AF-BBC9-44FD-A06B-96F38DF5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006A04-5D37-43CF-94AA-4DD5EDEF7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648B58-56B3-4031-B41D-0295CB60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D6A2D4C-4610-4331-B36F-2E61CEA4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26C086-29F8-4FBB-AAA8-450ECAE03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D8EAF03-25E0-4450-B808-F18BFC0EA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199D45-609F-4D2D-BC92-7C0DF07A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2394F8-C85F-4159-B62C-A9F57638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F323A4-7BF8-4938-A92D-B5D956BB8B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FA6D9-CCF5-4EA9-B032-5CCD73D918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38507-8AA5-46FD-8791-863F4566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9A75C-5804-4A2D-8678-8C2213685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ED7944-8B1B-486B-9A02-2A1A85982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D8E3E6-F0FA-4347-97A7-EB4966B48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1D3D1-DA70-46B9-ABFF-06F5DB229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D7B62-344A-45C2-B361-6EFE65273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F6C267-86C2-4698-B155-7A4DD7D49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8AB939-483F-4997-AFCF-D846032E9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195F7-F7DB-4353-970D-1789F07F7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3CDC6-2C09-4551-BB9D-810B51D6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8AAA3-1085-4570-9280-0BAB631B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EED44-1F69-47D2-BDFD-B246AF2982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C0E12-058A-475E-93AD-1ABB76D0B08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5BFE3C8-409E-4A69-94BB-A73EB42D21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EF46197-A1EA-4161-BE0D-55141F231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E61AAD1-950C-4FC1-984D-69C15728A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D422A7-2455-432A-B397-2C1090DDD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FC6065A-F867-4CBE-8EE6-B0C24EF6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1B5D453-FA8D-4C2C-9F7E-82AA12EAB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7CB4BA4-C969-4914-A57F-59723A19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709C127-CDD3-451C-AA00-9AB4CAED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134D1E-C184-4F8C-B630-8AADD8165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A4D13-4FCB-48F7-A94D-7D0064146E8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6B4CE5-F33D-40DB-ACF3-DDDD6FED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38B5D2-225F-4D4C-8FFA-F2DF3C0A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1DD4A89-4F1B-4AC3-8FD8-718A5F2B981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E9B884-BBE2-4150-BB01-F3469A1615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46779-01D8-42F9-B6F1-B12E0C496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F226E3-3AC6-45AE-B439-F5E9DFAD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9648F7-525B-43B3-98DE-9B56E7DA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FD1674-1872-4406-8254-F43CCB9EB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8720B2-7E1C-4674-98FC-EAE3BB978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DC97D2-1B60-416F-93AA-8651A0F8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704EC-ADB7-475A-AD9F-CA312AC72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8F1EF2-21AA-42EB-A13C-21C39A8B4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72CC0C-59BC-4037-AF84-F47E0761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08FB1F-0056-4572-AAE0-9DD46D567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5DEF1E-F02D-40CA-9189-8C60AD3B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231666-996F-4D46-94E4-E806C75759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7A64A9-E3FB-440C-9140-D832DE3702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7D5B05-B880-49B1-8619-9DDB944E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0AF9A6-BF98-495D-910B-5DD82865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34BED-1D2D-424E-A9F4-4D49029D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6A85E-FFD1-4D54-9C45-173624AD1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1D3A0-5ADB-4186-A8CE-5C9F15F2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F15212-0240-4543-AF0B-76E2DA0E1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1939C-91A1-412D-B798-C3BBEA81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43E827-8113-4ADB-8448-0D1ED44C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D9FD9B-0C16-4D6F-9D5F-48F825B7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A1D17-A3B4-458F-893D-CB3C6AADA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E4C6A-E4FC-4D06-A75C-193996B2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213F3-FC09-4947-850B-3BB8196888F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0E44FD-E4F8-47E8-94C4-522F62F387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D2BC4F-5A9B-4391-8DE7-5355586C0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11917D8-BE90-4545-B226-F5624E54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397CD-17F0-4DB5-ADE0-6443360D1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4C33A0-45FC-49E9-BB68-8EB2136D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DF589A-FA9B-4FF0-8243-FD0CCB39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CC182FF-55A9-403C-B62D-7A144EAC4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4702F9-8524-4E16-9343-8F6ED1E0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D05B40-EFA3-4226-8016-CEB70CAB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4C9AC4-4722-427E-98F3-791A1751A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B540469-19BA-4B12-95B9-095D738F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A5AC01-0A64-40EF-A126-A0DD4F2E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2E0AD3-ACA1-4EA6-A40A-F94E2169A7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0588EBB-2225-4D68-9E72-9C0152C09F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0B4522-372A-46B1-BC10-F24FDD1AB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A23A350-88ED-431A-997A-B8C80C5FF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D125111-CE11-4537-A763-9DB42019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A65263D-DE7A-4A29-8AF9-3CC0AC0C3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BF0B62-E350-49D1-86AB-9662BA91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2A1C29D-5A94-4834-813B-4BE57AFC4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D554EC7-B7AD-45AE-BC97-169DF1D0A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483B65-7724-465A-900B-96A35889C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D62B41-195E-4E90-912A-46251156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7726B75-855F-4DAA-95C5-F8F3D483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DA5089-ABAD-498F-8CCB-7FBB38ED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A2030C-7583-47E7-8689-DABEA8D1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4E1031-F99A-4C80-B909-C90443AB95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D93B65-5BFD-4F45-83D1-8881B261D6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2A8FC-079C-4AD8-9D27-8C786E71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CBFC4-7229-4458-A766-6C5B6EAD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740C6B-4111-4C66-9339-E843F9AD0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464AD3-23FA-4373-8F81-27B743930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AA77A-8D51-48C8-94CA-D79872486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ED878-F9D2-4AED-872F-65554789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FC32AF-DDB5-4172-939D-36A52367E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0F748-39D5-407F-B5C1-E238281F6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20674-61F7-48F4-8313-D144AFE8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FA4F5-ADE8-4E5A-87BB-6214409F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3FEFEA-7C48-44D3-B3A3-24B5BD5B4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B6954-BBBE-4605-A718-B8F442FB31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0DFCD3E-818C-4FD4-925F-C1AFD033AC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188CD8E-EC47-4807-88F6-2F1B5E25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DFBF378-B441-45D4-847A-261A578B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3C7DA1-59DA-4D49-8868-049D1259C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70C3BA-4B19-478F-A32C-11C51338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A3D7C35-B604-46B0-A861-C77B444C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92F0A9-D79A-4974-B9F2-BE84F69A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714BD-EFE0-4A40-95D8-3FD60A15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C2CFA9-26F1-4912-81A7-AAF347423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D981959-5A1D-4590-A9D6-2E16D841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0073CF-9928-43D2-A9A1-87EBA557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5447983-2F86-44B8-ADAB-75A881A96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5E7F8EA-DB5B-49EA-9BC5-F524B856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3EB288-3072-4FA8-B000-890D86376D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FFD4E3E-76DF-4E26-8C65-404B8FAC0A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8410B79-7247-4729-A996-3929BFE0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C93B0B8-9D5B-48F3-8560-D563D1A3F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B0D8B97-6BA2-41FF-BCCF-27A07077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9BB2023-A5FD-4AEB-BD32-1AE0CC03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1D173-22F3-4135-8F59-D9F30200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DC094BE-23FF-4C9A-829C-B605A16A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71E772C-B6B2-454D-9AEB-AE5FF1A9C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0CC472F-4ADB-457B-8E5D-B099B58D5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431183D-35E5-4129-8F3B-D38F961A4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E831158-635D-4814-90A9-45F7480D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ED8AEB1-A539-4EA8-8F50-37DD2EAD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3391066-611E-4C4B-B4D4-A551ED58D5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CE7CA7-05E7-4F0C-8668-15AA07B57D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B7B64D-3DBE-4F4A-A277-01F72518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0ED0D3-0E28-4059-9E57-765433AC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7B180-53F0-4BD3-B8F6-AC7E509C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EF7EE8-6496-4BF5-8BB6-DDF9EE8A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35AD89-95B9-4B04-BD2E-2E1B1DBC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A615B0-DBDA-41BD-8425-327AD361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D50E48-34A3-493F-82FD-9C2A636D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6EB0DB-0B99-4AA9-9295-0FB2E0A9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652F2D-F75C-4E45-8AFF-2618FB0B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0119F6-6974-41D7-8F71-23D7B94BC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F8157F-6BB0-448D-8909-CDD31A7E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34B937-19C3-468C-B496-3D952896B3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8B78E1A-5914-416A-B7B5-B7EE65D45B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94E50-E2B6-41A7-BA19-A23917048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ACE8373-0658-4A55-82B5-AA5CD7FA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D84CB1-7AED-44E5-85EB-B93F448A9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A48297-EBB1-4B63-BA51-031AA38FF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1D7F7CD-CB84-491E-B509-9058D361D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F46697F-AAD7-4B94-85CB-3A7EF7B6D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26B2B30-CE62-43BF-A7BD-1E1B51F9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EF70D49-B968-4477-8AFA-6AB84E4A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2B5B97-29AE-4B53-9AD0-8A1446B26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EF7C3F9-19A7-4470-9B09-6812F1825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77AC382-390B-44CB-804F-F07D863B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0A7AC6-4EE4-4F41-8642-68E5A53049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5F8AE67-9327-49A1-8792-4DD9A61006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8E7E957-129C-45B8-B7A6-ADDA9A7B22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32BAD45-7560-485D-B8CE-5093BCF54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9A616F8-D369-4489-84D8-8E2F79BA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AE4F49A-DE49-4ED0-AB8B-B7B392BD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AAF405E-D720-480D-BE2D-2DC39BC6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4FC3AF8-58EB-4F47-97B9-4CD356866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1A5BFD4-9876-4613-A3CB-6A095BF6F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F5A8CE1-90EB-456A-B221-C96621A6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759A56E-50B3-4D70-AC06-43181A529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B2A28A-097E-4505-922D-37193387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A2F4A90-9512-4848-B295-8415C294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93A36DE-18CF-44CA-B0AF-1929F6265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C270942-8996-42EE-B6C1-8462212E06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E31711-FFEC-4A1D-863C-41B39E1400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2F19B7-1C2B-4C9C-8954-4C2AB391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3DC903-3C03-4CB4-A82B-98C87F395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985709-1072-42A7-A2DB-DFE90C37F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E2FDDE-0954-4529-A333-03216DFBC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853B75-040E-45C9-8FFA-BC09BC9A5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47D680-93F8-4D92-A057-542EA6D2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95AA85-6AEE-481F-B00A-14C1C8C8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CEF3B1-4263-4953-990C-1A6E65BE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C85D19-41BA-4579-A8AA-33ADA95B4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9EEE69-B29B-4BBD-AA51-1889200F4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4D5F1F-34AA-4FBC-B96B-C4A40021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501455-9F68-45A1-98CA-4C85DB1269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A14F56DE-97B4-496A-AA3B-2CEA143D72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4FCA0BA-9DD6-4255-BB84-CB097AEA9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664392D-125A-4CF0-99AC-6A13FC18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589B621-EA83-4FF6-9D25-37B0624F7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06C5D6C-B9E4-4D4B-941D-E804A03A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F45062-BC4F-45C0-9208-3DC61B524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45ABAE7-A6C2-4F30-B634-377B6E47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598469F-96D5-4562-A5FB-6FEC576B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EF7D914-C7B7-410B-87CC-B5640A78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57B7D42-971E-4760-AABD-8847F9FB2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A0C320B-DFFE-499E-A8D8-FB379456D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DD39028-6620-45E8-AC77-1F23333E0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4F9892B-B71A-4D71-A2D5-15454310A32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A8C1A01F-4DF8-47F6-84BC-8A3C0592F5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C51AF79-EE94-477D-8447-DBEAF73EF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8E0715F-A462-4FE0-B06D-AAD6984D4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5328A5-00DE-401E-B33B-FD053EAC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E5AD43A-B2D2-4731-8056-974B044A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7991F0C-F62E-463D-BD10-315AB6F49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C003C7D-B00B-4F75-AC36-4DAF1F790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67E62B4-B48F-4546-91BC-DCE6EAD3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B2D098F-625C-4429-9B08-EE12C8311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FC5949B-09CA-4EF5-A373-C10F6022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D3C379D-B0ED-4368-950A-069FBFBE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2B4ED4F-27B6-4F71-A53F-B87532516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610D02F-CC15-4612-A2BE-8E950A57F3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BEF9BC-43E7-4EB7-8C2B-0B90FBE2D6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314137-FDA0-44FB-9162-ABDEB28A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05EEDA-90E9-447B-8E2D-2770F674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567025-8606-49A7-AC1C-1E9D0D923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7525D89-AD7B-4C94-90DA-98DC2784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B4E21E-6B9C-4ED4-86D2-08D5E6782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924C95-0095-4626-9952-530DBE30D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3DDC92-1DF9-4821-9B30-34B3BF46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CE4B18-23B7-4806-8164-7A0687DA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D0EFE7F-7DED-4578-A42F-9EFD594CB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F53AA9-FDBB-4E88-BFF0-F20BE3A84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9628C3-C5B3-4118-BDEA-382B4042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DFBD1-5D10-4953-8815-AE413D15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2E924B-0482-439C-9395-FD07528B1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E29716-B78E-47FC-B9FC-0275349125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68D65D-C62B-48A3-B4F5-20FA80D88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DB7D2E-7CDE-4455-A874-1998E61C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D9464C-0CDB-4AB5-8426-2A992BE3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78BAB0-1BD1-4E2A-BC56-B4D9A4C43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0A5CE1-0A31-4B01-9D9E-F8155198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DF078F-3FC7-480E-851D-15DB56F0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9FF949-31B4-4177-9ECE-2882A7679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E9298E-F789-4CF8-90B1-DE2BC963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B8B182-079E-4697-821C-92A987F5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15143A-4E2D-4196-A8DC-061F7729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52CAFD-DF8A-4C8C-8A55-68D1661B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EC8ABB-5A83-4C84-B9A2-E2677E87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312CDB-4C5F-430B-968A-E4EF5A3D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94E739-609E-4D89-9084-7AFAB0756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17369D-EC8E-41F9-BD75-08EEB3A9A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27BDB2-0B93-4AEF-9612-3B17BF87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83CD58-D21D-4504-928A-17225414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8EEC8A-F716-464D-AD7D-9F825219B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4C3E33-A17D-4A96-B025-3660A3B3E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04B3A0-C947-4917-8810-EA403DB8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8095D2-9FC6-4485-BD2C-DEB11C37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01FAB1-50F5-49DB-8BDE-8F33345D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AB2BC7-B21F-4D11-AF69-004E308B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3C9A7F-41E5-4690-B999-29C706C9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092B18-D61B-45C8-992D-8FCCD85C0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B4F68D-C636-4CFB-9FFD-896664E47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F2E75A-5EFE-40E1-8237-511FA83E7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C34CBC-D011-4B4D-8858-2BC40404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C7B5AC-C2A1-4D0C-B55E-02E648F2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9962DB-B554-4107-8B71-853234E9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71B95F-385F-4810-A807-E0D266F6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CE2441-AC3D-444D-8196-787BF2D2F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5598FE-8B70-499E-ABE0-681B3C22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8E0071-6622-4C5D-8338-BF964FADF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096564-8A0C-427E-98B3-E893A3F9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E11A95-1E4A-4B55-AE9C-7BD89CC73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393ADF-FA45-4ABE-8D4D-B637DECE2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2BD5CF-E0EF-4244-B609-6120EB282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088AC8-9997-4FAE-81B3-9D6835A15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D19DDD-3F07-4D41-BD3F-BFAD53B7D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24E97F-1A41-4578-8920-0347596BA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318125-3A7A-45A8-BF39-AAC331429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DE3FCB-8707-4DBB-AA85-F539CA43B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C6D672-0595-42B6-9174-A640D49E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E1F9E6-B777-418A-97C7-41C8FD90D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80D5B8-D6BD-4072-A3EB-251ACE99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465C99-5B60-4E98-A397-11ECE1A9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4B8CBDB-3154-46EE-8A41-C795A467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55B688-3F89-4854-B1A0-1314B321D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0259BF-C988-4A6A-8A01-EE1E2603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D81569-03F7-40DD-A2CE-6CAAA9793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4B9560-5E72-4AFB-80CB-46B56D3EA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95924F-6749-43EC-B3C7-50BCE358D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5A5165-8E88-4B2F-BB2A-7A8304AB2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9AB795F-AA08-4C66-9EC9-2FDBA4799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626ECD-C767-41EC-A3FC-0D2C7666C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4503872-00F1-428E-A778-047689599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5351AA-C4F9-4755-817A-70A442C51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010705-DB72-4592-BB04-7BEA3D4B7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1F8D64-5817-4661-9261-0BCFAB323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D6A84D-BBEA-47EF-8A8B-A2A3C7B84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47E29D-CA17-44D7-98E7-D1ABC736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43D112-DFF2-4254-BB9B-FE871D3B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D5A3C9-E7B0-4C69-8A73-27E75E922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25D22F-DCB7-425C-A7D9-3AAD2DE33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904272-D11E-4AD0-A297-DA2441B6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C3145E1-D547-4EC5-BF68-60FC21674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6198CF-D444-4989-82DD-489B001F5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62B2D8-8C98-4EC0-BDD4-E8FCA9EFB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3EAB2B-2EC2-4ECC-8FF6-1652C56DB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A858AA-2B9A-4366-9996-78BA228A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ECB9A5-EC0B-425D-9611-B0B00940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8E04606-E4FA-402C-BA95-5F908701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9EA630-4B8D-4DAD-9A54-F28468DC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65A830-974B-40CA-B8D3-15B0E26B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BD046-3C8C-4956-83FB-41FFFF965A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D3DBC1-57CD-4CB0-9071-74FD5D3A6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722F870-6220-4085-8AB9-2A5B2C6F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213DCC-9B02-47EE-94D5-95646B7B0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F093F36-4B99-4F3B-AA96-8B9FC025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338264E-9373-4B55-86DD-62961BB6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390CE5-5AAE-4784-9A5C-4FD63A75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80EAD4-902B-4DD7-98EF-F5F76125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52CD97-23E3-402A-8017-6A085E7C9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06DB4D8-766E-457F-91EE-0E49C0CC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5A4570-7239-4288-A80C-94BCB2F9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1F42D-9F7C-464A-9C1C-D08A70A04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1B3D701-3AE5-4CF9-A4CE-C66655C6F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DF5647-3A91-4D32-A2C8-D28D12DE0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CF5F84-3C25-4162-A9B1-B68D7956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A832D0-3443-4F35-975C-F4B0294F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7246A2-59E7-4329-80AD-B18F5E12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76E925-D256-41E7-A45D-9B6BB5B0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FA526A-9398-4261-B2D0-A4115D56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742C76-FF6A-4D97-AF6C-5609C289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909D5A1-7E56-4EBB-80B9-F9670A7D6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6FF064-2ABC-4583-9D90-E251852C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6AD88-4F69-40F8-9412-30198788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3C9602-0AF5-40F0-BE7F-056C8B1F8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08ECED3-D027-4E6B-83EF-6AF25EFF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D89371-E6D0-44A0-90EB-C8647242C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BD6B94-85A1-48A6-9348-B33C46959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3ECBAF-FBC4-4837-AAF3-4D7E4E42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CE78503-BA75-43CE-B6A3-191D18162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10E973-5458-4335-A3C1-D59F8C6B3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28F322E-4300-48D7-81A0-6AD589349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EB5E0F-58F4-471C-B5F5-473DF1FCB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639FD6-A07F-43DC-AF96-EDF3F14B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06FD1-A841-4CD0-B2B9-14DC17A17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B003A-01B0-459F-BDAD-15760C69D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2C282D-4D99-45CC-9083-175E6870D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DB05318-A6D4-448D-8280-AD100BD8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5DC85C-F0C3-4324-A392-4F79668A7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CDA5EEA-5AA2-44F0-A976-4C7AEBF5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212122-EC51-4BF3-8073-FA73439C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ECD813A-C928-4533-B6EB-C25EB9621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14BA37-F5BA-47CB-B716-F88356AC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55D1F5-6F45-44A9-A460-D784FCC8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C22AC00-BC0B-444D-B5A7-89BEF0671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D6C807-DBEE-498F-9751-4B5B7985D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70A24-4E1D-4552-961E-EA27B57BF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D101E6-9CE8-4484-8797-F34644BB7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656C2AD-3AED-4BF2-B542-5154A0F20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34BFBD6-ADB4-4AC8-A381-C1DF5E6D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1809E1-3AB6-41B9-BB5A-1CF30E21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F9CFDD-AD5B-4AD0-AD78-EEAC4AC1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F46E02-4D3E-4451-97FF-B8C43D1B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D6FE76A-9A0C-4192-81B0-613DC0D4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EDB9C9-B2A7-458B-AD28-66AF3690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FF3D61-548A-419B-BD13-303B272A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8A2D8A-2929-4562-BCFC-38BBE276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0ACDE6-8D10-4AC3-A2FF-D0D2EE30D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4EB3FC-BA6F-45F6-A653-EC30E2A97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EBDE4B-4D67-471F-AB3E-F4F83A912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22840E6-68BA-4910-819B-CA39EDF0A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C970B9-630B-45A0-8C79-72B0E0B0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0F6C529-54CB-4858-8E39-2987CE25B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8FB66DC-762D-45C5-8269-45216CE1D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E56CF4-BAA7-4679-ACB5-341EE989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76F2C5-99FF-4A2F-8939-A67DF164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455AA9-FFC2-4B90-94DA-68D3D57E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B25916-902A-41B5-A6C1-3CF1A7780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8D973-30D1-49E4-AE79-7330B941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338828-E054-4D62-8AA8-B3BAB871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E30F40-C2D4-4285-8964-10E810ABC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F1E91C6-E2D2-4D37-8423-3ACB413A3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A72CB-3CCB-4160-AF61-13400233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AE486-89A7-43A3-A465-3288C4DE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F662F-9721-4DC5-BE7A-E8AA8D14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367EE-E8C3-457A-BE24-CED9EF556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6FB59-1EE7-4602-B23F-99AB595C96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9CE5EA0-FFE9-4D66-93A1-0764CBE13B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A15A0-9FCF-4208-A0C0-7C42EB8F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182AFB-56DC-4B21-BE6D-8ED47907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002304-0198-447B-A982-B4BBD0D00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3AC30D4-3835-4DC6-A926-8E7737BF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04372D-2371-4922-9BFB-1F82B4F5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5EC725-7B2F-43F8-BF04-4BF89815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AFC0C0-E2BA-44FD-AFEF-9A2555F0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7E3B3B-1C03-4AB8-BEBC-965F09B15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B70CCA-0816-487B-B85B-C5D1ED78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E57EE3C-DA53-4DC4-A9EF-5F909B84A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F4CC75-0FA7-4B9A-84B6-9EBFE468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BFF53-1BB5-4C78-B825-94E2B026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A40A74-A160-4C13-9EAD-F364D0E092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B6882E8-C36C-45A8-A4D7-F6E7BF4C67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547B5A-EF6F-48D8-92A3-42CB3E9E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FBD03F-DA88-4108-8E84-FCC56ED6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DB1F4CE-5376-4845-9655-2D5B31A8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2345AE-F7F0-41E4-BF92-9BFF492B5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EC4196-EDEB-4276-8DD4-38A9D5325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EEC173-A5B6-413B-8B86-B160E08F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8EC12B-C6C8-4B7C-8A38-EF68873C1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F55656-2496-445A-9D37-8676B494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3EC9B-CE12-4766-9B02-A132CC9E4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FE572A-B580-400A-A45C-EF6A9B576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71943C-CC5C-422F-9BE9-66EDA8528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9B56F8-347A-4683-9AAA-997E0A7FE23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0914F-C2A0-48C9-8344-D0F0B15F52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ABC611-3435-47BA-9EB3-5AB036DD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47463-F615-4E30-974D-CB9B341D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52C02-28D7-4D02-9009-8E70FCBB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9566E-8E7F-40C2-A97E-EB6E825ED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F0DC3-F95A-4127-9F51-D5D4FFE7B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1AC5C-3BF6-4F96-95F2-C7581C03E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8ACAA-2B33-4375-9C43-6E10BD2D0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2783B-FF68-4997-9E18-CCE7DA57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B3AF5-AF6B-4D09-B22C-D3BE6A5D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9072D-EC48-4E47-A80E-079022DD4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5CF25-1229-4CF1-97BE-F0BFFDC01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C5F13-272F-4AC8-BDDE-E1DF0214F26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13FE1F-AB59-44A7-9F5F-57EF70594D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4B20E51-1F0A-4958-9278-6DA29BEE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5B0057-C8A9-443D-A386-3AB848D3A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D87210B-B39D-4A5C-97AD-6D5DCCF9D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1789C92-87C9-4DAA-9C4E-5FAB3486A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A577A8-95F9-468A-896D-864CA783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13D3C4-18DC-4073-83B4-2106249BA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D2EE5A-5890-47A1-8338-B9724C1D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32BE3C-CCD2-4CB0-AD3D-080EB3FF7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089F90-EAB8-47BD-A18B-B2756258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695B09-96BA-4F77-A337-BAA5373F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4AEE78-5252-4A81-969A-8ED81FBD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16EB06B-C8DF-443D-AB87-F550030648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A2CA7D-F3B2-4F99-849B-5DD0DF329F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5E7C84A-521F-4390-A0CA-5103D3D5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1731C8-E6B2-4E83-9199-31E44A54E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3793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3794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3795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3796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3797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3798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3799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E386-309A-496B-BBF7-C41DD8ED5AC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3373-DCEF-4C58-B6F9-98B7AFCDD39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04DE-8452-4C5A-A9B3-E77CB4593AC2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66B2-DB94-496B-A284-CA828405F155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A4C3-77F2-4D02-9CB4-24DBB28710C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0FE2-22E1-4782-89F2-12E3551C30E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AF896-691D-467D-AF92-D13E031061E4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 type="dt" idx="3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EE4C-12C0-4794-B683-4857D36EF28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8591-A79C-49D4-BF9A-BC7153A6C71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0D6EF-6A4B-427C-82FA-BD06516731C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 type="dt" idx="3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2C981-B632-46F9-8A12-CC9376DC414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DF7ED-6399-4441-9F55-8FC5D67A94F0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53A8A-0E66-4A14-BC9F-1D41B4A8450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 type="dt" idx="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FDA5-3C1B-48A3-9E23-CC5D3B84DB91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F5D4-79D9-4DC2-89E3-5F0CCAA30B6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A73B-3FE1-4219-8957-76A3CC57F6C2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sldNum" idx="4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0C4E-493B-433E-AD26-5535C454F85F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 type="dt" idx="5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7992-7218-4D02-BCF8-097A19C34ECA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862E-6B51-4EA6-8B65-87BCC3628F1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BD135-2B76-402D-855C-B099CA914C6B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A1897-782E-4CD5-963C-25274329D1DF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 type="dt" idx="6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B845-1D78-4DFF-B7ED-14BC2A08D0F6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95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6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7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8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99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00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13C5-090C-48D9-B521-8DB1D85D33DB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197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652A3-5E98-496E-B3E6-ACCE645D66F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1C03-F503-45C2-B561-23BB39D0DD4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10CC5-E23F-4444-89FD-2ED578D4B3EA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19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20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E1E0-3FB8-4BAA-BCAA-E7E4DED92D34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F568A-2F54-4918-835E-D7BE218D38D2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1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02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1BEB-ADF3-4952-8161-1053E363B777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73BC-DB75-4FCA-A183-177CFF083A90}" type="slidenum"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组合 34817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3" name="椭圆 34818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4" name="椭圆 34819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5" name="椭圆 34820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6" name="椭圆 34821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7" name="椭圆 34822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48" name="椭圆 34823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2F333-D4A7-4334-9389-D3EF266D774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6206A-D559-48FF-A089-74A2EB43BB6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B8DF-7412-49EC-B521-2F6D3182FC0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9026-7606-4009-A0AD-782795A9E82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F7177-BC97-4F99-8C4D-A11915F7845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623B-668E-47F8-99A9-24AC1457CF5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18.gif"/><Relationship Id="rId6" Type="http://schemas.openxmlformats.org/officeDocument/2006/relationships/image" Target="../media/image18.gif"/><Relationship Id="rId7" Type="http://schemas.openxmlformats.org/officeDocument/2006/relationships/image" Target="../media/image20.gif"/><Relationship Id="rId8" Type="http://schemas.openxmlformats.org/officeDocument/2006/relationships/image" Target="../media/image20.gif"/><Relationship Id="rId9" Type="http://schemas.openxmlformats.org/officeDocument/2006/relationships/image" Target="../media/image18.gif"/><Relationship Id="rId10" Type="http://schemas.openxmlformats.org/officeDocument/2006/relationships/image" Target="../media/image18.gif"/><Relationship Id="rId11" Type="http://schemas.openxmlformats.org/officeDocument/2006/relationships/image" Target="../media/image18.gif"/><Relationship Id="rId12" Type="http://schemas.openxmlformats.org/officeDocument/2006/relationships/image" Target="../media/image18.gif"/><Relationship Id="rId13" Type="http://schemas.openxmlformats.org/officeDocument/2006/relationships/audio" Target="../media/start.wav"/><Relationship Id="rId14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4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24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矩形 29697"/>
          <p:cNvSpPr/>
          <p:nvPr/>
        </p:nvSpPr>
        <p:spPr>
          <a:xfrm>
            <a:off x="269640" y="5176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1" name="矩形 29698"/>
          <p:cNvSpPr/>
          <p:nvPr/>
        </p:nvSpPr>
        <p:spPr>
          <a:xfrm>
            <a:off x="485640" y="5392800"/>
            <a:ext cx="62892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2" name="Rectangle 7"/>
          <p:cNvSpPr/>
          <p:nvPr/>
        </p:nvSpPr>
        <p:spPr>
          <a:xfrm>
            <a:off x="1692360" y="549360"/>
            <a:ext cx="528300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分数除法</a:t>
            </a:r>
            <a:endParaRPr b="0" i="1" lang="en-US" sz="4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3" name="TextBox 3"/>
          <p:cNvSpPr/>
          <p:nvPr/>
        </p:nvSpPr>
        <p:spPr>
          <a:xfrm>
            <a:off x="611280" y="1989000"/>
            <a:ext cx="5256000" cy="14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例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7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总量可用单位</a:t>
            </a: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表示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的分数除法问题</a:t>
            </a: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2" name="图片 27649" descr="42"/>
          <p:cNvPicPr/>
          <p:nvPr/>
        </p:nvPicPr>
        <p:blipFill>
          <a:blip r:embed="rId1"/>
          <a:stretch/>
        </p:blipFill>
        <p:spPr>
          <a:xfrm>
            <a:off x="895320" y="1484280"/>
            <a:ext cx="7985160" cy="2878200"/>
          </a:xfrm>
          <a:prstGeom prst="rect">
            <a:avLst/>
          </a:prstGeom>
          <a:ln w="0">
            <a:noFill/>
          </a:ln>
        </p:spPr>
      </p:pic>
      <p:sp>
        <p:nvSpPr>
          <p:cNvPr id="1833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4" name="Text Box 68"/>
          <p:cNvSpPr/>
          <p:nvPr/>
        </p:nvSpPr>
        <p:spPr>
          <a:xfrm>
            <a:off x="826920" y="162864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.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5" name="矩形 27652"/>
          <p:cNvSpPr/>
          <p:nvPr/>
        </p:nvSpPr>
        <p:spPr>
          <a:xfrm>
            <a:off x="3617640" y="414972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如果两辆车一起运，多少次能运完这批货物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36" name="组合 27653"/>
          <p:cNvGrpSpPr/>
          <p:nvPr/>
        </p:nvGrpSpPr>
        <p:grpSpPr>
          <a:xfrm>
            <a:off x="2052720" y="4581360"/>
            <a:ext cx="3240000" cy="1672560"/>
            <a:chOff x="2052720" y="4581360"/>
            <a:chExt cx="3240000" cy="1672560"/>
          </a:xfrm>
        </p:grpSpPr>
        <p:sp>
          <p:nvSpPr>
            <p:cNvPr id="1837" name="Text Box 71"/>
            <p:cNvSpPr/>
            <p:nvPr/>
          </p:nvSpPr>
          <p:spPr>
            <a:xfrm>
              <a:off x="2052720" y="4745160"/>
              <a:ext cx="3240000" cy="15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÷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  ＋  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÷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次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38" name="组合 27655"/>
            <p:cNvGrpSpPr/>
            <p:nvPr/>
          </p:nvGrpSpPr>
          <p:grpSpPr>
            <a:xfrm>
              <a:off x="3059280" y="4584600"/>
              <a:ext cx="510480" cy="815400"/>
              <a:chOff x="3059280" y="4584600"/>
              <a:chExt cx="510480" cy="815400"/>
            </a:xfrm>
          </p:grpSpPr>
          <p:sp>
            <p:nvSpPr>
              <p:cNvPr id="1839" name="文本框 27656"/>
              <p:cNvSpPr/>
              <p:nvPr/>
            </p:nvSpPr>
            <p:spPr>
              <a:xfrm>
                <a:off x="3065040" y="49402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40" name="文本框 27657"/>
              <p:cNvSpPr/>
              <p:nvPr/>
            </p:nvSpPr>
            <p:spPr>
              <a:xfrm>
                <a:off x="3059280" y="458460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41" name="直接连接符 27658"/>
              <p:cNvSpPr/>
              <p:nvPr/>
            </p:nvSpPr>
            <p:spPr>
              <a:xfrm>
                <a:off x="3103200" y="5004000"/>
                <a:ext cx="25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42" name="组合 27659"/>
            <p:cNvGrpSpPr/>
            <p:nvPr/>
          </p:nvGrpSpPr>
          <p:grpSpPr>
            <a:xfrm>
              <a:off x="3538440" y="4581360"/>
              <a:ext cx="511200" cy="815400"/>
              <a:chOff x="3538440" y="4581360"/>
              <a:chExt cx="511200" cy="815400"/>
            </a:xfrm>
          </p:grpSpPr>
          <p:sp>
            <p:nvSpPr>
              <p:cNvPr id="1843" name="文本框 27660"/>
              <p:cNvSpPr/>
              <p:nvPr/>
            </p:nvSpPr>
            <p:spPr>
              <a:xfrm>
                <a:off x="3544560" y="493704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44" name="文本框 27661"/>
              <p:cNvSpPr/>
              <p:nvPr/>
            </p:nvSpPr>
            <p:spPr>
              <a:xfrm>
                <a:off x="3538440" y="4581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45" name="直接连接符 27662"/>
              <p:cNvSpPr/>
              <p:nvPr/>
            </p:nvSpPr>
            <p:spPr>
              <a:xfrm>
                <a:off x="3582720" y="500076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46" name="组合 27663"/>
            <p:cNvGrpSpPr/>
            <p:nvPr/>
          </p:nvGrpSpPr>
          <p:grpSpPr>
            <a:xfrm>
              <a:off x="2771640" y="5084640"/>
              <a:ext cx="511200" cy="815400"/>
              <a:chOff x="2771640" y="5084640"/>
              <a:chExt cx="511200" cy="815400"/>
            </a:xfrm>
          </p:grpSpPr>
          <p:sp>
            <p:nvSpPr>
              <p:cNvPr id="1847" name="文本框 27664"/>
              <p:cNvSpPr/>
              <p:nvPr/>
            </p:nvSpPr>
            <p:spPr>
              <a:xfrm>
                <a:off x="2777760" y="544032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48" name="文本框 27665"/>
              <p:cNvSpPr/>
              <p:nvPr/>
            </p:nvSpPr>
            <p:spPr>
              <a:xfrm>
                <a:off x="2771640" y="5084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49" name="直接连接符 27666"/>
              <p:cNvSpPr/>
              <p:nvPr/>
            </p:nvSpPr>
            <p:spPr>
              <a:xfrm>
                <a:off x="2815920" y="550404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二、巩固练习，提升认识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51" name="Rectangle 47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52" name="图片 28675" descr="3360529746949846227"/>
          <p:cNvPicPr/>
          <p:nvPr/>
        </p:nvPicPr>
        <p:blipFill>
          <a:blip r:embed="rId1"/>
          <a:stretch/>
        </p:blipFill>
        <p:spPr>
          <a:xfrm>
            <a:off x="5364000" y="2708280"/>
            <a:ext cx="2965680" cy="1957320"/>
          </a:xfrm>
          <a:prstGeom prst="rect">
            <a:avLst/>
          </a:prstGeom>
          <a:ln w="0">
            <a:noFill/>
          </a:ln>
        </p:spPr>
      </p:pic>
      <p:grpSp>
        <p:nvGrpSpPr>
          <p:cNvPr id="1853" name="组合 28676"/>
          <p:cNvGrpSpPr/>
          <p:nvPr/>
        </p:nvGrpSpPr>
        <p:grpSpPr>
          <a:xfrm>
            <a:off x="1187280" y="3286080"/>
            <a:ext cx="3240000" cy="1672200"/>
            <a:chOff x="1187280" y="3286080"/>
            <a:chExt cx="3240000" cy="1672200"/>
          </a:xfrm>
        </p:grpSpPr>
        <p:sp>
          <p:nvSpPr>
            <p:cNvPr id="1854" name="Text Box 71"/>
            <p:cNvSpPr/>
            <p:nvPr/>
          </p:nvSpPr>
          <p:spPr>
            <a:xfrm>
              <a:off x="1187280" y="3449520"/>
              <a:ext cx="3240000" cy="15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÷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（   ＋   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÷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天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55" name="组合 28678"/>
            <p:cNvGrpSpPr/>
            <p:nvPr/>
          </p:nvGrpSpPr>
          <p:grpSpPr>
            <a:xfrm>
              <a:off x="2155680" y="3286080"/>
              <a:ext cx="504720" cy="815040"/>
              <a:chOff x="2155680" y="3286080"/>
              <a:chExt cx="504720" cy="815040"/>
            </a:xfrm>
          </p:grpSpPr>
          <p:sp>
            <p:nvSpPr>
              <p:cNvPr id="1856" name="文本框 28679"/>
              <p:cNvSpPr/>
              <p:nvPr/>
            </p:nvSpPr>
            <p:spPr>
              <a:xfrm>
                <a:off x="2155680" y="36414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7" name="文本框 28680"/>
              <p:cNvSpPr/>
              <p:nvPr/>
            </p:nvSpPr>
            <p:spPr>
              <a:xfrm>
                <a:off x="2244600" y="3286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58" name="直接连接符 28681"/>
              <p:cNvSpPr/>
              <p:nvPr/>
            </p:nvSpPr>
            <p:spPr>
              <a:xfrm>
                <a:off x="2222280" y="37047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59" name="组合 28682"/>
            <p:cNvGrpSpPr/>
            <p:nvPr/>
          </p:nvGrpSpPr>
          <p:grpSpPr>
            <a:xfrm>
              <a:off x="2822400" y="3292200"/>
              <a:ext cx="504720" cy="815400"/>
              <a:chOff x="2822400" y="3292200"/>
              <a:chExt cx="504720" cy="815400"/>
            </a:xfrm>
          </p:grpSpPr>
          <p:sp>
            <p:nvSpPr>
              <p:cNvPr id="1860" name="文本框 28683"/>
              <p:cNvSpPr/>
              <p:nvPr/>
            </p:nvSpPr>
            <p:spPr>
              <a:xfrm>
                <a:off x="2822400" y="3647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1" name="文本框 28684"/>
              <p:cNvSpPr/>
              <p:nvPr/>
            </p:nvSpPr>
            <p:spPr>
              <a:xfrm>
                <a:off x="2911320" y="3292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2" name="直接连接符 28685"/>
              <p:cNvSpPr/>
              <p:nvPr/>
            </p:nvSpPr>
            <p:spPr>
              <a:xfrm>
                <a:off x="2889000" y="37112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63" name="组合 28686"/>
            <p:cNvGrpSpPr/>
            <p:nvPr/>
          </p:nvGrpSpPr>
          <p:grpSpPr>
            <a:xfrm>
              <a:off x="1884240" y="3809880"/>
              <a:ext cx="504720" cy="815400"/>
              <a:chOff x="1884240" y="3809880"/>
              <a:chExt cx="504720" cy="815400"/>
            </a:xfrm>
          </p:grpSpPr>
          <p:sp>
            <p:nvSpPr>
              <p:cNvPr id="1864" name="文本框 28687"/>
              <p:cNvSpPr/>
              <p:nvPr/>
            </p:nvSpPr>
            <p:spPr>
              <a:xfrm>
                <a:off x="1884240" y="41655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5" name="文本框 28688"/>
              <p:cNvSpPr/>
              <p:nvPr/>
            </p:nvSpPr>
            <p:spPr>
              <a:xfrm>
                <a:off x="1973160" y="3809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66" name="直接连接符 28689"/>
              <p:cNvSpPr/>
              <p:nvPr/>
            </p:nvSpPr>
            <p:spPr>
              <a:xfrm>
                <a:off x="1950840" y="42289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867" name="组合 28690"/>
          <p:cNvGrpSpPr/>
          <p:nvPr/>
        </p:nvGrpSpPr>
        <p:grpSpPr>
          <a:xfrm>
            <a:off x="828720" y="1444680"/>
            <a:ext cx="8135640" cy="1357920"/>
            <a:chOff x="828720" y="1444680"/>
            <a:chExt cx="8135640" cy="1357920"/>
          </a:xfrm>
        </p:grpSpPr>
        <p:sp>
          <p:nvSpPr>
            <p:cNvPr id="1868" name="Text Box 45"/>
            <p:cNvSpPr/>
            <p:nvPr/>
          </p:nvSpPr>
          <p:spPr>
            <a:xfrm>
              <a:off x="828720" y="1627200"/>
              <a:ext cx="8135640" cy="9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2.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挖一条水渠，王伯伯每天挖整条水渠的    ，李叔叔每天挖整条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水渠的   。两人合作，几天能挖完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69" name="组合 28692"/>
            <p:cNvGrpSpPr/>
            <p:nvPr/>
          </p:nvGrpSpPr>
          <p:grpSpPr>
            <a:xfrm>
              <a:off x="5584680" y="1444680"/>
              <a:ext cx="504720" cy="815040"/>
              <a:chOff x="5584680" y="1444680"/>
              <a:chExt cx="504720" cy="815040"/>
            </a:xfrm>
          </p:grpSpPr>
          <p:sp>
            <p:nvSpPr>
              <p:cNvPr id="1870" name="文本框 28693"/>
              <p:cNvSpPr/>
              <p:nvPr/>
            </p:nvSpPr>
            <p:spPr>
              <a:xfrm>
                <a:off x="5584680" y="18000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1" name="文本框 28694"/>
              <p:cNvSpPr/>
              <p:nvPr/>
            </p:nvSpPr>
            <p:spPr>
              <a:xfrm>
                <a:off x="5673600" y="14446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2" name="直接连接符 28695"/>
              <p:cNvSpPr/>
              <p:nvPr/>
            </p:nvSpPr>
            <p:spPr>
              <a:xfrm>
                <a:off x="5651280" y="18633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73" name="组合 28696"/>
            <p:cNvGrpSpPr/>
            <p:nvPr/>
          </p:nvGrpSpPr>
          <p:grpSpPr>
            <a:xfrm>
              <a:off x="1908000" y="1987560"/>
              <a:ext cx="504720" cy="815040"/>
              <a:chOff x="1908000" y="1987560"/>
              <a:chExt cx="504720" cy="815040"/>
            </a:xfrm>
          </p:grpSpPr>
          <p:sp>
            <p:nvSpPr>
              <p:cNvPr id="1874" name="文本框 28697"/>
              <p:cNvSpPr/>
              <p:nvPr/>
            </p:nvSpPr>
            <p:spPr>
              <a:xfrm>
                <a:off x="1908000" y="2342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0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5" name="文本框 28698"/>
              <p:cNvSpPr/>
              <p:nvPr/>
            </p:nvSpPr>
            <p:spPr>
              <a:xfrm>
                <a:off x="1996920" y="1987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76" name="直接连接符 28699"/>
              <p:cNvSpPr/>
              <p:nvPr/>
            </p:nvSpPr>
            <p:spPr>
              <a:xfrm>
                <a:off x="1974600" y="24062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Rectangle 2"/>
          <p:cNvSpPr/>
          <p:nvPr/>
        </p:nvSpPr>
        <p:spPr>
          <a:xfrm>
            <a:off x="457200" y="417600"/>
            <a:ext cx="613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三、全课总结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78" name="TextBox 4"/>
          <p:cNvSpPr/>
          <p:nvPr/>
        </p:nvSpPr>
        <p:spPr>
          <a:xfrm>
            <a:off x="1103400" y="2266920"/>
            <a:ext cx="7572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宋体"/>
              </a:rPr>
              <a:t>今天都有哪些收获？还有什么问题？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9" name="Picture 2" descr="星08"/>
          <p:cNvPicPr/>
          <p:nvPr/>
        </p:nvPicPr>
        <p:blipFill>
          <a:blip r:embed="rId1"/>
          <a:stretch/>
        </p:blipFill>
        <p:spPr>
          <a:xfrm>
            <a:off x="7315200" y="68580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880" name="Picture 3" descr="星08"/>
          <p:cNvPicPr/>
          <p:nvPr/>
        </p:nvPicPr>
        <p:blipFill>
          <a:blip r:embed="rId2"/>
          <a:stretch/>
        </p:blipFill>
        <p:spPr>
          <a:xfrm>
            <a:off x="304920" y="4876920"/>
            <a:ext cx="884160" cy="884160"/>
          </a:xfrm>
          <a:prstGeom prst="rect">
            <a:avLst/>
          </a:prstGeom>
          <a:ln w="0">
            <a:noFill/>
          </a:ln>
        </p:spPr>
      </p:pic>
      <p:sp>
        <p:nvSpPr>
          <p:cNvPr id="1881" name="WordArt 4"/>
          <p:cNvSpPr txBox="1"/>
          <p:nvPr/>
        </p:nvSpPr>
        <p:spPr>
          <a:xfrm>
            <a:off x="1523880" y="4572000"/>
            <a:ext cx="60962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ln w="0">
                  <a:noFill/>
                </a:ln>
                <a:blipFill rotWithShape="0">
                  <a:blip r:embed="rId3"/>
                  <a:srcRect/>
                  <a:tile tx="0" ty="0" sx="100000" sy="100000" algn="ctr"/>
                </a:blipFill>
                <a:uFillTx/>
                <a:latin typeface="宋体"/>
              </a:rPr>
              <a:t>Good Bye!</a:t>
            </a:r>
            <a:endParaRPr b="0" i="1" lang="en-US" sz="3200" spc="-1" strike="noStrike" u="sng">
              <a:ln w="0">
                <a:noFill/>
              </a:ln>
              <a:blipFill rotWithShape="0">
                <a:blip r:embed="rId4"/>
                <a:srcRect/>
                <a:tile tx="0" ty="0" sx="100000" sy="100000" algn="ctr"/>
              </a:blipFill>
              <a:uFillTx/>
              <a:latin typeface="宋体"/>
              <a:ea typeface="宋体"/>
            </a:endParaRPr>
          </a:p>
        </p:txBody>
      </p:sp>
      <p:pic>
        <p:nvPicPr>
          <p:cNvPr id="1882" name="Picture 5" descr="星08"/>
          <p:cNvPicPr/>
          <p:nvPr/>
        </p:nvPicPr>
        <p:blipFill>
          <a:blip r:embed="rId5"/>
          <a:stretch/>
        </p:blipFill>
        <p:spPr>
          <a:xfrm>
            <a:off x="539640" y="553572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883" name="Picture 6" descr="星08"/>
          <p:cNvPicPr/>
          <p:nvPr/>
        </p:nvPicPr>
        <p:blipFill>
          <a:blip r:embed="rId6"/>
          <a:stretch/>
        </p:blipFill>
        <p:spPr>
          <a:xfrm>
            <a:off x="7451640" y="1197000"/>
            <a:ext cx="1258920" cy="790560"/>
          </a:xfrm>
          <a:prstGeom prst="rect">
            <a:avLst/>
          </a:prstGeom>
          <a:ln w="0">
            <a:noFill/>
          </a:ln>
        </p:spPr>
      </p:pic>
      <p:sp>
        <p:nvSpPr>
          <p:cNvPr id="1884" name="WordArt 7"/>
          <p:cNvSpPr txBox="1"/>
          <p:nvPr/>
        </p:nvSpPr>
        <p:spPr>
          <a:xfrm>
            <a:off x="1476360" y="2924280"/>
            <a:ext cx="5832360" cy="71280"/>
          </a:xfrm>
          <a:prstGeom prst="rect">
            <a:avLst/>
          </a:prstGeom>
        </p:spPr>
        <p:txBody>
          <a:bodyPr wrap="none" fromWordArt="1" lIns="90000" rIns="90000" tIns="24840" bIns="24840" anchor="t" anchorCtr="1">
            <a:prstTxWarp prst="textArchUp">
              <a:avLst>
                <a:gd name="adj" fmla="val 108003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 u="sng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808080"/>
                  </a:outerShdw>
                </a:effectLst>
                <a:uFillTx/>
                <a:latin typeface="宋体"/>
              </a:rPr>
              <a:t>再见</a:t>
            </a:r>
            <a:endParaRPr b="1" i="1" lang="en-US" sz="6600" spc="-1" strike="noStrike" u="sng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808080"/>
                </a:outerShdw>
              </a:effectLst>
              <a:uFillTx/>
              <a:latin typeface="宋体"/>
              <a:ea typeface="宋体"/>
            </a:endParaRPr>
          </a:p>
        </p:txBody>
      </p:sp>
      <p:pic>
        <p:nvPicPr>
          <p:cNvPr id="1885" name="Picture 8" descr="星08"/>
          <p:cNvPicPr/>
          <p:nvPr/>
        </p:nvPicPr>
        <p:blipFill>
          <a:blip r:embed="rId9"/>
          <a:stretch/>
        </p:blipFill>
        <p:spPr>
          <a:xfrm>
            <a:off x="539640" y="476280"/>
            <a:ext cx="884520" cy="884160"/>
          </a:xfrm>
          <a:prstGeom prst="rect">
            <a:avLst/>
          </a:prstGeom>
          <a:ln w="0">
            <a:noFill/>
          </a:ln>
        </p:spPr>
      </p:pic>
      <p:pic>
        <p:nvPicPr>
          <p:cNvPr id="1886" name="Picture 9" descr="星08"/>
          <p:cNvPicPr/>
          <p:nvPr/>
        </p:nvPicPr>
        <p:blipFill>
          <a:blip r:embed="rId10"/>
          <a:stretch/>
        </p:blipFill>
        <p:spPr>
          <a:xfrm>
            <a:off x="676440" y="987480"/>
            <a:ext cx="1258560" cy="790560"/>
          </a:xfrm>
          <a:prstGeom prst="rect">
            <a:avLst/>
          </a:prstGeom>
          <a:ln w="0">
            <a:noFill/>
          </a:ln>
        </p:spPr>
      </p:pic>
      <p:pic>
        <p:nvPicPr>
          <p:cNvPr id="1887" name="Picture 10" descr="星08"/>
          <p:cNvPicPr/>
          <p:nvPr/>
        </p:nvPicPr>
        <p:blipFill>
          <a:blip r:embed="rId11"/>
          <a:stretch/>
        </p:blipFill>
        <p:spPr>
          <a:xfrm>
            <a:off x="7451640" y="5229360"/>
            <a:ext cx="884160" cy="884160"/>
          </a:xfrm>
          <a:prstGeom prst="rect">
            <a:avLst/>
          </a:prstGeom>
          <a:ln w="0">
            <a:noFill/>
          </a:ln>
        </p:spPr>
      </p:pic>
      <p:pic>
        <p:nvPicPr>
          <p:cNvPr id="1888" name="Picture 11" descr="星08"/>
          <p:cNvPicPr/>
          <p:nvPr/>
        </p:nvPicPr>
        <p:blipFill>
          <a:blip r:embed="rId12"/>
          <a:stretch/>
        </p:blipFill>
        <p:spPr>
          <a:xfrm>
            <a:off x="7588080" y="5740560"/>
            <a:ext cx="1258920" cy="79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afterEffect" fill="hold" presetClass="entr" presetID="19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0" fill="hold"/>
                                        <p:tgtEl>
                                          <p:spTgt spid="18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dur="indefinite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star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3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3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3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3000" fill="hold"/>
                                        <p:tgtEl>
                                          <p:spTgt spid="1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5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一）阅读与理解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6" name="TextBox 34"/>
          <p:cNvSpPr/>
          <p:nvPr/>
        </p:nvSpPr>
        <p:spPr>
          <a:xfrm>
            <a:off x="108000" y="452592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87" name="TextBox 36"/>
          <p:cNvSpPr/>
          <p:nvPr/>
        </p:nvSpPr>
        <p:spPr>
          <a:xfrm>
            <a:off x="900000" y="4564080"/>
            <a:ext cx="33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①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从题目中你知道了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488" name="Object 18" descr=""/>
          <p:cNvPicPr/>
          <p:nvPr/>
        </p:nvPicPr>
        <p:blipFill>
          <a:blip r:embed="rId1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489" name="TextBox 36"/>
          <p:cNvSpPr/>
          <p:nvPr/>
        </p:nvSpPr>
        <p:spPr>
          <a:xfrm>
            <a:off x="887400" y="4975200"/>
            <a:ext cx="82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②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要解决“两队合修，多少天修完？”这个问题，需要知道哪些信息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这条路的长度“工作总量”；两队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天各修的长度 “工作效率”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0" name="TextBox 36"/>
          <p:cNvSpPr/>
          <p:nvPr/>
        </p:nvSpPr>
        <p:spPr>
          <a:xfrm>
            <a:off x="884160" y="577548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③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如果知道了这两个信息，这个问题可以怎样解决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这条路的长度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一队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天修的长度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二队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天修的长度）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491" name="组合 19464"/>
          <p:cNvGrpSpPr/>
          <p:nvPr/>
        </p:nvGrpSpPr>
        <p:grpSpPr>
          <a:xfrm>
            <a:off x="2505240" y="2014560"/>
            <a:ext cx="4514400" cy="2564280"/>
            <a:chOff x="2505240" y="2014560"/>
            <a:chExt cx="4514400" cy="2564280"/>
          </a:xfrm>
        </p:grpSpPr>
        <p:pic>
          <p:nvPicPr>
            <p:cNvPr id="1492" name="图片 19465" descr="41"/>
            <p:cNvPicPr/>
            <p:nvPr/>
          </p:nvPicPr>
          <p:blipFill>
            <a:blip r:embed="rId2"/>
            <a:stretch/>
          </p:blipFill>
          <p:spPr>
            <a:xfrm>
              <a:off x="2505240" y="2014560"/>
              <a:ext cx="4514400" cy="21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3" name="矩形 19466"/>
            <p:cNvSpPr/>
            <p:nvPr/>
          </p:nvSpPr>
          <p:spPr>
            <a:xfrm>
              <a:off x="2906640" y="4119120"/>
              <a:ext cx="394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如果两队合修，多少天能修完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494" name="矩形 19468"/>
          <p:cNvSpPr/>
          <p:nvPr/>
        </p:nvSpPr>
        <p:spPr>
          <a:xfrm>
            <a:off x="198000" y="5440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5" name="矩形 19469"/>
          <p:cNvSpPr/>
          <p:nvPr/>
        </p:nvSpPr>
        <p:spPr>
          <a:xfrm>
            <a:off x="414000" y="5656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7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分析与解答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8" name="TextBox 135"/>
          <p:cNvSpPr/>
          <p:nvPr/>
        </p:nvSpPr>
        <p:spPr>
          <a:xfrm>
            <a:off x="250920" y="455616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99" name="TextBox 136"/>
          <p:cNvSpPr/>
          <p:nvPr/>
        </p:nvSpPr>
        <p:spPr>
          <a:xfrm>
            <a:off x="965160" y="456876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①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我们需要的这两个信息题目中都没有给，怎么办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0" name="TextBox 136"/>
          <p:cNvSpPr/>
          <p:nvPr/>
        </p:nvSpPr>
        <p:spPr>
          <a:xfrm>
            <a:off x="958680" y="5002200"/>
            <a:ext cx="789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②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我们能不能先假设出这条路的长度，再计算呢？可以怎样假设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假设这条路的长度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8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k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；假设这条路的长度是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30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km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结合学生的假设，可以随机使用数据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1" name="TextBox 136"/>
          <p:cNvSpPr/>
          <p:nvPr/>
        </p:nvSpPr>
        <p:spPr>
          <a:xfrm>
            <a:off x="1000080" y="6181560"/>
            <a:ext cx="578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③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根据你假设的这条路的长度，请你列式计算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02" name="组合 20487"/>
          <p:cNvGrpSpPr/>
          <p:nvPr/>
        </p:nvGrpSpPr>
        <p:grpSpPr>
          <a:xfrm>
            <a:off x="2505240" y="2014560"/>
            <a:ext cx="4514400" cy="2564280"/>
            <a:chOff x="2505240" y="2014560"/>
            <a:chExt cx="4514400" cy="2564280"/>
          </a:xfrm>
        </p:grpSpPr>
        <p:pic>
          <p:nvPicPr>
            <p:cNvPr id="1503" name="图片 20488" descr="41"/>
            <p:cNvPicPr/>
            <p:nvPr/>
          </p:nvPicPr>
          <p:blipFill>
            <a:blip r:embed="rId1"/>
            <a:stretch/>
          </p:blipFill>
          <p:spPr>
            <a:xfrm>
              <a:off x="2505240" y="2014560"/>
              <a:ext cx="4514400" cy="218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4" name="矩形 20489"/>
            <p:cNvSpPr/>
            <p:nvPr/>
          </p:nvSpPr>
          <p:spPr>
            <a:xfrm>
              <a:off x="2906640" y="4119120"/>
              <a:ext cx="394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如果两队合修，多少天能修完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05" name="矩形 20491"/>
          <p:cNvSpPr/>
          <p:nvPr/>
        </p:nvSpPr>
        <p:spPr>
          <a:xfrm>
            <a:off x="198000" y="5440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6" name="矩形 20492"/>
          <p:cNvSpPr/>
          <p:nvPr/>
        </p:nvSpPr>
        <p:spPr>
          <a:xfrm>
            <a:off x="414000" y="5656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8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分析与解答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09" name="TextBox 135"/>
          <p:cNvSpPr/>
          <p:nvPr/>
        </p:nvSpPr>
        <p:spPr>
          <a:xfrm>
            <a:off x="-38160" y="415908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0" name="TextBox 136"/>
          <p:cNvSpPr/>
          <p:nvPr/>
        </p:nvSpPr>
        <p:spPr>
          <a:xfrm>
            <a:off x="611280" y="4195800"/>
            <a:ext cx="4174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①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8÷1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.5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求的是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一队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天修的长度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8÷18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求的又是什么 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队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天修的长度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1" name="Text Box 45"/>
          <p:cNvSpPr/>
          <p:nvPr/>
        </p:nvSpPr>
        <p:spPr>
          <a:xfrm>
            <a:off x="-36360" y="208296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2" name="Rectangle 5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3" name="Rectangle 55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4" name="Rectangle 5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5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6" name="TextBox 136"/>
          <p:cNvSpPr/>
          <p:nvPr/>
        </p:nvSpPr>
        <p:spPr>
          <a:xfrm>
            <a:off x="611280" y="5792760"/>
            <a:ext cx="37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②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.5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求的是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两队合修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天的长度。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7" name="Rectangle 10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8" name="Text Box 101"/>
          <p:cNvSpPr/>
          <p:nvPr/>
        </p:nvSpPr>
        <p:spPr>
          <a:xfrm>
            <a:off x="6407280" y="2203560"/>
            <a:ext cx="863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8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km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19" name="AutoShape 102"/>
          <p:cNvSpPr/>
          <p:nvPr/>
        </p:nvSpPr>
        <p:spPr>
          <a:xfrm rot="16200000">
            <a:off x="6730920" y="477360"/>
            <a:ext cx="144360" cy="4319640"/>
          </a:xfrm>
          <a:custGeom>
            <a:avLst/>
            <a:gdLst>
              <a:gd name="textAreaLeft" fmla="*/ 0 w 144360"/>
              <a:gd name="textAreaRight" fmla="*/ 52200 w 14436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0" name="Line 104"/>
          <p:cNvSpPr/>
          <p:nvPr/>
        </p:nvSpPr>
        <p:spPr>
          <a:xfrm>
            <a:off x="4643280" y="321624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1" name="Line 105"/>
          <p:cNvSpPr/>
          <p:nvPr/>
        </p:nvSpPr>
        <p:spPr>
          <a:xfrm>
            <a:off x="5003640" y="322092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2" name="Line 106"/>
          <p:cNvSpPr/>
          <p:nvPr/>
        </p:nvSpPr>
        <p:spPr>
          <a:xfrm>
            <a:off x="8948880" y="321300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3" name="AutoShape 107"/>
          <p:cNvSpPr/>
          <p:nvPr/>
        </p:nvSpPr>
        <p:spPr>
          <a:xfrm rot="16200000">
            <a:off x="4748760" y="2904120"/>
            <a:ext cx="144720" cy="358920"/>
          </a:xfrm>
          <a:custGeom>
            <a:avLst/>
            <a:gdLst>
              <a:gd name="textAreaLeft" fmla="*/ 0 w 144720"/>
              <a:gd name="textAreaRight" fmla="*/ 52200 w 144720"/>
              <a:gd name="textAreaTop" fmla="*/ 9360 h 358920"/>
              <a:gd name="textAreaBottom" fmla="*/ 34956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4" name="Line 110"/>
          <p:cNvSpPr/>
          <p:nvPr/>
        </p:nvSpPr>
        <p:spPr>
          <a:xfrm>
            <a:off x="4678200" y="477360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5" name="Line 111"/>
          <p:cNvSpPr/>
          <p:nvPr/>
        </p:nvSpPr>
        <p:spPr>
          <a:xfrm>
            <a:off x="8985240" y="477360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6" name="AutoShape 113"/>
          <p:cNvSpPr/>
          <p:nvPr/>
        </p:nvSpPr>
        <p:spPr>
          <a:xfrm rot="16200000">
            <a:off x="4784400" y="4511520"/>
            <a:ext cx="144720" cy="360360"/>
          </a:xfrm>
          <a:custGeom>
            <a:avLst/>
            <a:gdLst>
              <a:gd name="textAreaLeft" fmla="*/ 0 w 144720"/>
              <a:gd name="textAreaRight" fmla="*/ 52200 w 14472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7" name="AutoShape 115"/>
          <p:cNvSpPr/>
          <p:nvPr/>
        </p:nvSpPr>
        <p:spPr>
          <a:xfrm rot="16200000">
            <a:off x="6726240" y="2086920"/>
            <a:ext cx="190440" cy="4286520"/>
          </a:xfrm>
          <a:custGeom>
            <a:avLst/>
            <a:gdLst>
              <a:gd name="textAreaLeft" fmla="*/ 0 w 190440"/>
              <a:gd name="textAreaRight" fmla="*/ 68760 w 190440"/>
              <a:gd name="textAreaTop" fmla="*/ 148320 h 4286520"/>
              <a:gd name="textAreaBottom" fmla="*/ 4138200 h 4286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96"/>
                  <a:pt x="10800" y="2392"/>
                </a:cubicBezTo>
                <a:lnTo>
                  <a:pt x="10800" y="8408"/>
                </a:lnTo>
                <a:cubicBezTo>
                  <a:pt x="10800" y="9604"/>
                  <a:pt x="16200" y="10800"/>
                  <a:pt x="21600" y="10800"/>
                </a:cubicBezTo>
                <a:cubicBezTo>
                  <a:pt x="16200" y="10800"/>
                  <a:pt x="10800" y="11996"/>
                  <a:pt x="10800" y="13192"/>
                </a:cubicBezTo>
                <a:lnTo>
                  <a:pt x="10800" y="19208"/>
                </a:lnTo>
                <a:cubicBezTo>
                  <a:pt x="10800" y="2040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8" name="Text Box 116"/>
          <p:cNvSpPr/>
          <p:nvPr/>
        </p:nvSpPr>
        <p:spPr>
          <a:xfrm>
            <a:off x="6396120" y="3782880"/>
            <a:ext cx="1225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8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km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29" name="Line 118"/>
          <p:cNvSpPr/>
          <p:nvPr/>
        </p:nvSpPr>
        <p:spPr>
          <a:xfrm>
            <a:off x="5040360" y="628668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0" name="Line 119"/>
          <p:cNvSpPr/>
          <p:nvPr/>
        </p:nvSpPr>
        <p:spPr>
          <a:xfrm>
            <a:off x="8996400" y="629604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1" name="Line 120"/>
          <p:cNvSpPr/>
          <p:nvPr/>
        </p:nvSpPr>
        <p:spPr>
          <a:xfrm>
            <a:off x="5292720" y="628668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2" name="AutoShape 121"/>
          <p:cNvSpPr/>
          <p:nvPr/>
        </p:nvSpPr>
        <p:spPr>
          <a:xfrm rot="16200000">
            <a:off x="5096520" y="6091920"/>
            <a:ext cx="144720" cy="238320"/>
          </a:xfrm>
          <a:custGeom>
            <a:avLst/>
            <a:gdLst>
              <a:gd name="textAreaLeft" fmla="*/ 0 w 144720"/>
              <a:gd name="textAreaRight" fmla="*/ 52200 w 144720"/>
              <a:gd name="textAreaTop" fmla="*/ 6120 h 238320"/>
              <a:gd name="textAreaBottom" fmla="*/ 232200 h 23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3" name="Line 122"/>
          <p:cNvSpPr/>
          <p:nvPr/>
        </p:nvSpPr>
        <p:spPr>
          <a:xfrm>
            <a:off x="4680000" y="628668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4" name="AutoShape 123"/>
          <p:cNvSpPr/>
          <p:nvPr/>
        </p:nvSpPr>
        <p:spPr>
          <a:xfrm rot="16200000">
            <a:off x="4786920" y="6032880"/>
            <a:ext cx="144360" cy="358560"/>
          </a:xfrm>
          <a:custGeom>
            <a:avLst/>
            <a:gdLst>
              <a:gd name="textAreaLeft" fmla="*/ 0 w 144360"/>
              <a:gd name="textAreaRight" fmla="*/ 52200 w 144360"/>
              <a:gd name="textAreaTop" fmla="*/ 9000 h 358560"/>
              <a:gd name="textAreaBottom" fmla="*/ 349560 h 35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5" name="AutoShape 126"/>
          <p:cNvSpPr/>
          <p:nvPr/>
        </p:nvSpPr>
        <p:spPr>
          <a:xfrm rot="16200000">
            <a:off x="6725880" y="3563640"/>
            <a:ext cx="222480" cy="4318200"/>
          </a:xfrm>
          <a:custGeom>
            <a:avLst/>
            <a:gdLst>
              <a:gd name="textAreaLeft" fmla="*/ 0 w 222480"/>
              <a:gd name="textAreaRight" fmla="*/ 80280 w 222480"/>
              <a:gd name="textAreaTop" fmla="*/ 176040 h 4318200"/>
              <a:gd name="textAreaBottom" fmla="*/ 4142160 h 431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09"/>
                  <a:pt x="10800" y="2817"/>
                </a:cubicBezTo>
                <a:lnTo>
                  <a:pt x="10800" y="7983"/>
                </a:lnTo>
                <a:cubicBezTo>
                  <a:pt x="10800" y="9392"/>
                  <a:pt x="16200" y="10800"/>
                  <a:pt x="21600" y="10800"/>
                </a:cubicBezTo>
                <a:cubicBezTo>
                  <a:pt x="16200" y="10800"/>
                  <a:pt x="10800" y="12209"/>
                  <a:pt x="10800" y="13617"/>
                </a:cubicBezTo>
                <a:lnTo>
                  <a:pt x="10800" y="18783"/>
                </a:lnTo>
                <a:cubicBezTo>
                  <a:pt x="10800" y="20192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6" name="Text Box 128"/>
          <p:cNvSpPr/>
          <p:nvPr/>
        </p:nvSpPr>
        <p:spPr>
          <a:xfrm>
            <a:off x="6427800" y="5265720"/>
            <a:ext cx="8269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8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km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7" name="Text Box 129"/>
          <p:cNvSpPr/>
          <p:nvPr/>
        </p:nvSpPr>
        <p:spPr>
          <a:xfrm>
            <a:off x="4521240" y="2682720"/>
            <a:ext cx="10080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5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km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8" name="Text Box 130"/>
          <p:cNvSpPr/>
          <p:nvPr/>
        </p:nvSpPr>
        <p:spPr>
          <a:xfrm>
            <a:off x="4556160" y="4290840"/>
            <a:ext cx="1225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km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39" name="Text Box 131"/>
          <p:cNvSpPr/>
          <p:nvPr/>
        </p:nvSpPr>
        <p:spPr>
          <a:xfrm>
            <a:off x="4429080" y="5805360"/>
            <a:ext cx="23036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（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.5</a:t>
            </a: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＋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</a:t>
            </a: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）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km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40" name="组合 21538"/>
          <p:cNvGrpSpPr/>
          <p:nvPr/>
        </p:nvGrpSpPr>
        <p:grpSpPr>
          <a:xfrm>
            <a:off x="4643280" y="3284640"/>
            <a:ext cx="4318200" cy="0"/>
            <a:chOff x="4643280" y="3284640"/>
            <a:chExt cx="4318200" cy="0"/>
          </a:xfrm>
        </p:grpSpPr>
        <p:sp>
          <p:nvSpPr>
            <p:cNvPr id="1541" name="直接连接符 21539"/>
            <p:cNvSpPr/>
            <p:nvPr/>
          </p:nvSpPr>
          <p:spPr>
            <a:xfrm>
              <a:off x="4643280" y="3284640"/>
              <a:ext cx="4318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42" name="直接连接符 21540"/>
            <p:cNvSpPr/>
            <p:nvPr/>
          </p:nvSpPr>
          <p:spPr>
            <a:xfrm>
              <a:off x="4643280" y="328464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43" name="组合 21541"/>
          <p:cNvGrpSpPr/>
          <p:nvPr/>
        </p:nvGrpSpPr>
        <p:grpSpPr>
          <a:xfrm>
            <a:off x="684360" y="2565360"/>
            <a:ext cx="3671640" cy="1674360"/>
            <a:chOff x="684360" y="2565360"/>
            <a:chExt cx="3671640" cy="1674360"/>
          </a:xfrm>
        </p:grpSpPr>
        <p:sp>
          <p:nvSpPr>
            <p:cNvPr id="1544" name="Text Box 46"/>
            <p:cNvSpPr/>
            <p:nvPr/>
          </p:nvSpPr>
          <p:spPr>
            <a:xfrm>
              <a:off x="684360" y="2565360"/>
              <a:ext cx="3671640" cy="15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8÷1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.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8÷1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8÷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.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＝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天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45" name="组合 21543"/>
            <p:cNvGrpSpPr/>
            <p:nvPr/>
          </p:nvGrpSpPr>
          <p:grpSpPr>
            <a:xfrm>
              <a:off x="2817720" y="3424320"/>
              <a:ext cx="587520" cy="815400"/>
              <a:chOff x="2817720" y="3424320"/>
              <a:chExt cx="587520" cy="815400"/>
            </a:xfrm>
          </p:grpSpPr>
          <p:sp>
            <p:nvSpPr>
              <p:cNvPr id="1546" name="文本框 21544"/>
              <p:cNvSpPr/>
              <p:nvPr/>
            </p:nvSpPr>
            <p:spPr>
              <a:xfrm>
                <a:off x="2900160" y="378000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7" name="文本框 21545"/>
              <p:cNvSpPr/>
              <p:nvPr/>
            </p:nvSpPr>
            <p:spPr>
              <a:xfrm>
                <a:off x="2817720" y="3424320"/>
                <a:ext cx="58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48" name="直接连接符 21546"/>
              <p:cNvSpPr/>
              <p:nvPr/>
            </p:nvSpPr>
            <p:spPr>
              <a:xfrm>
                <a:off x="2881080" y="3843360"/>
                <a:ext cx="36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49" name="Line 105"/>
          <p:cNvSpPr/>
          <p:nvPr/>
        </p:nvSpPr>
        <p:spPr>
          <a:xfrm>
            <a:off x="5038560" y="478800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50" name="组合 21548"/>
          <p:cNvGrpSpPr/>
          <p:nvPr/>
        </p:nvGrpSpPr>
        <p:grpSpPr>
          <a:xfrm>
            <a:off x="4668840" y="4851360"/>
            <a:ext cx="4317840" cy="0"/>
            <a:chOff x="4668840" y="4851360"/>
            <a:chExt cx="4317840" cy="0"/>
          </a:xfrm>
        </p:grpSpPr>
        <p:sp>
          <p:nvSpPr>
            <p:cNvPr id="1551" name="直接连接符 21549"/>
            <p:cNvSpPr/>
            <p:nvPr/>
          </p:nvSpPr>
          <p:spPr>
            <a:xfrm>
              <a:off x="4668840" y="4851360"/>
              <a:ext cx="43178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52" name="直接连接符 21550"/>
            <p:cNvSpPr/>
            <p:nvPr/>
          </p:nvSpPr>
          <p:spPr>
            <a:xfrm>
              <a:off x="4668840" y="485136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553" name="组合 21551"/>
          <p:cNvGrpSpPr/>
          <p:nvPr/>
        </p:nvGrpSpPr>
        <p:grpSpPr>
          <a:xfrm>
            <a:off x="4665600" y="6372360"/>
            <a:ext cx="4318200" cy="0"/>
            <a:chOff x="4665600" y="6372360"/>
            <a:chExt cx="4318200" cy="0"/>
          </a:xfrm>
        </p:grpSpPr>
        <p:sp>
          <p:nvSpPr>
            <p:cNvPr id="1554" name="直接连接符 21552"/>
            <p:cNvSpPr/>
            <p:nvPr/>
          </p:nvSpPr>
          <p:spPr>
            <a:xfrm>
              <a:off x="4665600" y="6372360"/>
              <a:ext cx="4318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555" name="直接连接符 21553"/>
            <p:cNvSpPr/>
            <p:nvPr/>
          </p:nvSpPr>
          <p:spPr>
            <a:xfrm>
              <a:off x="4665600" y="637236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556" name="矩形 21554"/>
          <p:cNvSpPr/>
          <p:nvPr/>
        </p:nvSpPr>
        <p:spPr>
          <a:xfrm>
            <a:off x="198000" y="5440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57" name="矩形 21555"/>
          <p:cNvSpPr/>
          <p:nvPr/>
        </p:nvSpPr>
        <p:spPr>
          <a:xfrm>
            <a:off x="414000" y="5656320"/>
            <a:ext cx="628920" cy="1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绿色圃中小学教育网</a:t>
            </a:r>
            <a:r>
              <a:rPr b="0" i="1" lang="en-US" sz="200" spc="-1" strike="noStrike" u="sng">
                <a:solidFill>
                  <a:srgbClr val="ffffff"/>
                </a:solidFill>
                <a:uFillTx/>
                <a:latin typeface="楷体_GB2312"/>
                <a:ea typeface="楷体_GB2312"/>
              </a:rPr>
              <a:t>http://www.lspjy.com</a:t>
            </a:r>
            <a:endParaRPr b="0" i="1" lang="en-US" sz="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8" name="组合 22529"/>
          <p:cNvGrpSpPr/>
          <p:nvPr/>
        </p:nvGrpSpPr>
        <p:grpSpPr>
          <a:xfrm>
            <a:off x="641520" y="3789360"/>
            <a:ext cx="4867200" cy="2018160"/>
            <a:chOff x="641520" y="3789360"/>
            <a:chExt cx="4867200" cy="2018160"/>
          </a:xfrm>
        </p:grpSpPr>
        <p:sp>
          <p:nvSpPr>
            <p:cNvPr id="1559" name="TextBox 136"/>
            <p:cNvSpPr/>
            <p:nvPr/>
          </p:nvSpPr>
          <p:spPr>
            <a:xfrm>
              <a:off x="641520" y="3884760"/>
              <a:ext cx="486720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①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÷1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求的是什么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（一队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天修的长度。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  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÷1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求的又是什么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二队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天修的长度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560" name="组合 22531"/>
            <p:cNvGrpSpPr/>
            <p:nvPr/>
          </p:nvGrpSpPr>
          <p:grpSpPr>
            <a:xfrm>
              <a:off x="2298600" y="3789360"/>
              <a:ext cx="511200" cy="815040"/>
              <a:chOff x="2298600" y="3789360"/>
              <a:chExt cx="511200" cy="815040"/>
            </a:xfrm>
          </p:grpSpPr>
          <p:sp>
            <p:nvSpPr>
              <p:cNvPr id="1561" name="文本框 22532"/>
              <p:cNvSpPr/>
              <p:nvPr/>
            </p:nvSpPr>
            <p:spPr>
              <a:xfrm>
                <a:off x="2305080" y="4144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2" name="文本框 22533"/>
              <p:cNvSpPr/>
              <p:nvPr/>
            </p:nvSpPr>
            <p:spPr>
              <a:xfrm>
                <a:off x="2298600" y="37893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3" name="直接连接符 22534"/>
              <p:cNvSpPr/>
              <p:nvPr/>
            </p:nvSpPr>
            <p:spPr>
              <a:xfrm>
                <a:off x="2314440" y="42084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564" name="组合 22535"/>
            <p:cNvGrpSpPr/>
            <p:nvPr/>
          </p:nvGrpSpPr>
          <p:grpSpPr>
            <a:xfrm>
              <a:off x="2320920" y="4702320"/>
              <a:ext cx="511200" cy="815040"/>
              <a:chOff x="2320920" y="4702320"/>
              <a:chExt cx="511200" cy="815040"/>
            </a:xfrm>
          </p:grpSpPr>
          <p:sp>
            <p:nvSpPr>
              <p:cNvPr id="1565" name="文本框 22536"/>
              <p:cNvSpPr/>
              <p:nvPr/>
            </p:nvSpPr>
            <p:spPr>
              <a:xfrm>
                <a:off x="2327400" y="50576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6" name="文本框 22537"/>
              <p:cNvSpPr/>
              <p:nvPr/>
            </p:nvSpPr>
            <p:spPr>
              <a:xfrm>
                <a:off x="2320920" y="47023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567" name="直接连接符 22538"/>
              <p:cNvSpPr/>
              <p:nvPr/>
            </p:nvSpPr>
            <p:spPr>
              <a:xfrm>
                <a:off x="2336760" y="512136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sp>
        <p:nvSpPr>
          <p:cNvPr id="1568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69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分析与解答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0" name="TextBox 135"/>
          <p:cNvSpPr/>
          <p:nvPr/>
        </p:nvSpPr>
        <p:spPr>
          <a:xfrm>
            <a:off x="1440" y="3913200"/>
            <a:ext cx="12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1" name="Text Box 6"/>
          <p:cNvSpPr/>
          <p:nvPr/>
        </p:nvSpPr>
        <p:spPr>
          <a:xfrm>
            <a:off x="34920" y="20350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3" name="Rectangle 11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7" name="Text Box 16"/>
          <p:cNvSpPr/>
          <p:nvPr/>
        </p:nvSpPr>
        <p:spPr>
          <a:xfrm>
            <a:off x="6416640" y="2131920"/>
            <a:ext cx="1225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0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km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8" name="AutoShape 17"/>
          <p:cNvSpPr/>
          <p:nvPr/>
        </p:nvSpPr>
        <p:spPr>
          <a:xfrm rot="16200000">
            <a:off x="6767280" y="420480"/>
            <a:ext cx="144720" cy="4319640"/>
          </a:xfrm>
          <a:custGeom>
            <a:avLst/>
            <a:gdLst>
              <a:gd name="textAreaLeft" fmla="*/ 0 w 144720"/>
              <a:gd name="textAreaRight" fmla="*/ 52200 w 14472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79" name="Line 19"/>
          <p:cNvSpPr/>
          <p:nvPr/>
        </p:nvSpPr>
        <p:spPr>
          <a:xfrm>
            <a:off x="4678200" y="326088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0" name="Line 21"/>
          <p:cNvSpPr/>
          <p:nvPr/>
        </p:nvSpPr>
        <p:spPr>
          <a:xfrm>
            <a:off x="8999640" y="326088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1" name="AutoShape 22"/>
          <p:cNvSpPr/>
          <p:nvPr/>
        </p:nvSpPr>
        <p:spPr>
          <a:xfrm rot="16200000">
            <a:off x="4783680" y="2997720"/>
            <a:ext cx="144720" cy="358920"/>
          </a:xfrm>
          <a:custGeom>
            <a:avLst/>
            <a:gdLst>
              <a:gd name="textAreaLeft" fmla="*/ 0 w 144720"/>
              <a:gd name="textAreaRight" fmla="*/ 52200 w 144720"/>
              <a:gd name="textAreaTop" fmla="*/ 9360 h 358920"/>
              <a:gd name="textAreaBottom" fmla="*/ 34956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2" name="Line 24"/>
          <p:cNvSpPr/>
          <p:nvPr/>
        </p:nvSpPr>
        <p:spPr>
          <a:xfrm>
            <a:off x="4678200" y="477360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3" name="Line 25"/>
          <p:cNvSpPr/>
          <p:nvPr/>
        </p:nvSpPr>
        <p:spPr>
          <a:xfrm>
            <a:off x="8994600" y="477360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4" name="Line 26"/>
          <p:cNvSpPr/>
          <p:nvPr/>
        </p:nvSpPr>
        <p:spPr>
          <a:xfrm>
            <a:off x="4917960" y="477360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5" name="AutoShape 27"/>
          <p:cNvSpPr/>
          <p:nvPr/>
        </p:nvSpPr>
        <p:spPr>
          <a:xfrm rot="16200000">
            <a:off x="4743360" y="4583160"/>
            <a:ext cx="108000" cy="238320"/>
          </a:xfrm>
          <a:custGeom>
            <a:avLst/>
            <a:gdLst>
              <a:gd name="textAreaLeft" fmla="*/ 0 w 108000"/>
              <a:gd name="textAreaRight" fmla="*/ 38880 w 108000"/>
              <a:gd name="textAreaTop" fmla="*/ 6120 h 238320"/>
              <a:gd name="textAreaBottom" fmla="*/ 232200 h 238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6" name="AutoShape 28"/>
          <p:cNvSpPr/>
          <p:nvPr/>
        </p:nvSpPr>
        <p:spPr>
          <a:xfrm rot="16200000">
            <a:off x="6767640" y="1963440"/>
            <a:ext cx="144360" cy="4319640"/>
          </a:xfrm>
          <a:custGeom>
            <a:avLst/>
            <a:gdLst>
              <a:gd name="textAreaLeft" fmla="*/ 0 w 144360"/>
              <a:gd name="textAreaRight" fmla="*/ 52200 w 14436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7" name="Text Box 29"/>
          <p:cNvSpPr/>
          <p:nvPr/>
        </p:nvSpPr>
        <p:spPr>
          <a:xfrm>
            <a:off x="6497640" y="3695760"/>
            <a:ext cx="1225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0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km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8" name="Line 30"/>
          <p:cNvSpPr/>
          <p:nvPr/>
        </p:nvSpPr>
        <p:spPr>
          <a:xfrm>
            <a:off x="4680000" y="6357960"/>
            <a:ext cx="43210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89" name="Line 31"/>
          <p:cNvSpPr/>
          <p:nvPr/>
        </p:nvSpPr>
        <p:spPr>
          <a:xfrm>
            <a:off x="5040360" y="628668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0" name="Line 32"/>
          <p:cNvSpPr/>
          <p:nvPr/>
        </p:nvSpPr>
        <p:spPr>
          <a:xfrm>
            <a:off x="8996400" y="628668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1" name="Line 33"/>
          <p:cNvSpPr/>
          <p:nvPr/>
        </p:nvSpPr>
        <p:spPr>
          <a:xfrm>
            <a:off x="5280120" y="628668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2" name="AutoShape 34"/>
          <p:cNvSpPr/>
          <p:nvPr/>
        </p:nvSpPr>
        <p:spPr>
          <a:xfrm rot="16200000">
            <a:off x="5087880" y="6094080"/>
            <a:ext cx="142920" cy="237960"/>
          </a:xfrm>
          <a:custGeom>
            <a:avLst/>
            <a:gdLst>
              <a:gd name="textAreaLeft" fmla="*/ 0 w 142920"/>
              <a:gd name="textAreaRight" fmla="*/ 51480 w 142920"/>
              <a:gd name="textAreaTop" fmla="*/ 6120 h 237960"/>
              <a:gd name="textAreaBottom" fmla="*/ 23184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3" name="Line 35"/>
          <p:cNvSpPr/>
          <p:nvPr/>
        </p:nvSpPr>
        <p:spPr>
          <a:xfrm>
            <a:off x="4680000" y="628668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4" name="AutoShape 36"/>
          <p:cNvSpPr/>
          <p:nvPr/>
        </p:nvSpPr>
        <p:spPr>
          <a:xfrm rot="16200000">
            <a:off x="4777560" y="6032880"/>
            <a:ext cx="144360" cy="358920"/>
          </a:xfrm>
          <a:custGeom>
            <a:avLst/>
            <a:gdLst>
              <a:gd name="textAreaLeft" fmla="*/ 0 w 144360"/>
              <a:gd name="textAreaRight" fmla="*/ 52200 w 144360"/>
              <a:gd name="textAreaTop" fmla="*/ 9360 h 358920"/>
              <a:gd name="textAreaBottom" fmla="*/ 34956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5" name="AutoShape 37"/>
          <p:cNvSpPr/>
          <p:nvPr/>
        </p:nvSpPr>
        <p:spPr>
          <a:xfrm rot="16200000">
            <a:off x="6767280" y="3504960"/>
            <a:ext cx="144720" cy="4319640"/>
          </a:xfrm>
          <a:custGeom>
            <a:avLst/>
            <a:gdLst>
              <a:gd name="textAreaLeft" fmla="*/ 0 w 144720"/>
              <a:gd name="textAreaRight" fmla="*/ 52200 w 14472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6" name="Text Box 38"/>
          <p:cNvSpPr/>
          <p:nvPr/>
        </p:nvSpPr>
        <p:spPr>
          <a:xfrm>
            <a:off x="6442200" y="5232240"/>
            <a:ext cx="12254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30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km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597" name="Line 105"/>
          <p:cNvSpPr/>
          <p:nvPr/>
        </p:nvSpPr>
        <p:spPr>
          <a:xfrm>
            <a:off x="5045040" y="326556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598" name="组合 22569"/>
          <p:cNvGrpSpPr/>
          <p:nvPr/>
        </p:nvGrpSpPr>
        <p:grpSpPr>
          <a:xfrm>
            <a:off x="4684680" y="3328920"/>
            <a:ext cx="4318200" cy="0"/>
            <a:chOff x="4684680" y="3328920"/>
            <a:chExt cx="4318200" cy="0"/>
          </a:xfrm>
        </p:grpSpPr>
        <p:sp>
          <p:nvSpPr>
            <p:cNvPr id="1599" name="直接连接符 22570"/>
            <p:cNvSpPr/>
            <p:nvPr/>
          </p:nvSpPr>
          <p:spPr>
            <a:xfrm>
              <a:off x="4684680" y="3328920"/>
              <a:ext cx="4318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00" name="直接连接符 22571"/>
            <p:cNvSpPr/>
            <p:nvPr/>
          </p:nvSpPr>
          <p:spPr>
            <a:xfrm>
              <a:off x="4684680" y="3328920"/>
              <a:ext cx="3603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01" name="组合 22572"/>
          <p:cNvGrpSpPr/>
          <p:nvPr/>
        </p:nvGrpSpPr>
        <p:grpSpPr>
          <a:xfrm>
            <a:off x="4591080" y="2689200"/>
            <a:ext cx="833040" cy="504720"/>
            <a:chOff x="4591080" y="2689200"/>
            <a:chExt cx="833040" cy="504720"/>
          </a:xfrm>
        </p:grpSpPr>
        <p:sp>
          <p:nvSpPr>
            <p:cNvPr id="1602" name="Text Box 39"/>
            <p:cNvSpPr/>
            <p:nvPr/>
          </p:nvSpPr>
          <p:spPr>
            <a:xfrm>
              <a:off x="4698720" y="2732040"/>
              <a:ext cx="725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m</a:t>
              </a:r>
              <a:endParaRPr b="0" i="1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603" name="Object 51" descr=""/>
            <p:cNvPicPr/>
            <p:nvPr/>
          </p:nvPicPr>
          <p:blipFill>
            <a:blip r:embed="rId1"/>
            <a:stretch/>
          </p:blipFill>
          <p:spPr>
            <a:xfrm>
              <a:off x="4591080" y="2689200"/>
              <a:ext cx="1951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4" name="组合 22575"/>
          <p:cNvGrpSpPr/>
          <p:nvPr/>
        </p:nvGrpSpPr>
        <p:grpSpPr>
          <a:xfrm>
            <a:off x="4668840" y="4856040"/>
            <a:ext cx="4317840" cy="0"/>
            <a:chOff x="4668840" y="4856040"/>
            <a:chExt cx="4317840" cy="0"/>
          </a:xfrm>
        </p:grpSpPr>
        <p:sp>
          <p:nvSpPr>
            <p:cNvPr id="1605" name="直接连接符 22576"/>
            <p:cNvSpPr/>
            <p:nvPr/>
          </p:nvSpPr>
          <p:spPr>
            <a:xfrm>
              <a:off x="4668840" y="4856040"/>
              <a:ext cx="43178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606" name="直接连接符 22577"/>
            <p:cNvSpPr/>
            <p:nvPr/>
          </p:nvSpPr>
          <p:spPr>
            <a:xfrm>
              <a:off x="4668840" y="4856040"/>
              <a:ext cx="3600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grpSp>
        <p:nvGrpSpPr>
          <p:cNvPr id="1607" name="组合 22578"/>
          <p:cNvGrpSpPr/>
          <p:nvPr/>
        </p:nvGrpSpPr>
        <p:grpSpPr>
          <a:xfrm>
            <a:off x="4591080" y="4211640"/>
            <a:ext cx="833400" cy="504720"/>
            <a:chOff x="4591080" y="4211640"/>
            <a:chExt cx="833400" cy="504720"/>
          </a:xfrm>
        </p:grpSpPr>
        <p:sp>
          <p:nvSpPr>
            <p:cNvPr id="1608" name="Text Box 39"/>
            <p:cNvSpPr/>
            <p:nvPr/>
          </p:nvSpPr>
          <p:spPr>
            <a:xfrm>
              <a:off x="4699080" y="4254480"/>
              <a:ext cx="72540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m</a:t>
              </a:r>
              <a:endParaRPr b="0" i="1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609" name="Object 51" descr=""/>
            <p:cNvPicPr/>
            <p:nvPr/>
          </p:nvPicPr>
          <p:blipFill>
            <a:blip r:embed="rId2"/>
            <a:stretch/>
          </p:blipFill>
          <p:spPr>
            <a:xfrm>
              <a:off x="4591080" y="4211640"/>
              <a:ext cx="19512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0" name="组合 22581"/>
          <p:cNvGrpSpPr/>
          <p:nvPr/>
        </p:nvGrpSpPr>
        <p:grpSpPr>
          <a:xfrm>
            <a:off x="4524480" y="5670720"/>
            <a:ext cx="1415880" cy="504720"/>
            <a:chOff x="4524480" y="5670720"/>
            <a:chExt cx="1415880" cy="504720"/>
          </a:xfrm>
        </p:grpSpPr>
        <p:sp>
          <p:nvSpPr>
            <p:cNvPr id="1611" name="Text Box 39"/>
            <p:cNvSpPr/>
            <p:nvPr/>
          </p:nvSpPr>
          <p:spPr>
            <a:xfrm>
              <a:off x="4524480" y="5713560"/>
              <a:ext cx="141588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(     ) </a:t>
              </a:r>
              <a:r>
                <a:rPr b="0" i="1" lang="en-US" sz="16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m</a:t>
              </a:r>
              <a:endParaRPr b="0" i="1" lang="en-US" sz="16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pic>
          <p:nvPicPr>
            <p:cNvPr id="1612" name="Object 51" descr=""/>
            <p:cNvPicPr/>
            <p:nvPr/>
          </p:nvPicPr>
          <p:blipFill>
            <a:blip r:embed="rId3"/>
            <a:stretch/>
          </p:blipFill>
          <p:spPr>
            <a:xfrm>
              <a:off x="4738320" y="5670720"/>
              <a:ext cx="488880" cy="504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13" name="组合 22584"/>
          <p:cNvGrpSpPr/>
          <p:nvPr/>
        </p:nvGrpSpPr>
        <p:grpSpPr>
          <a:xfrm>
            <a:off x="971640" y="1870200"/>
            <a:ext cx="3671640" cy="2019960"/>
            <a:chOff x="971640" y="1870200"/>
            <a:chExt cx="3671640" cy="2019960"/>
          </a:xfrm>
        </p:grpSpPr>
        <p:sp>
          <p:nvSpPr>
            <p:cNvPr id="1614" name="Text Box 8"/>
            <p:cNvSpPr/>
            <p:nvPr/>
          </p:nvSpPr>
          <p:spPr>
            <a:xfrm>
              <a:off x="971640" y="2035080"/>
              <a:ext cx="3671640" cy="16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÷1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÷1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÷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   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＝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天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15" name="组合 22586"/>
            <p:cNvGrpSpPr/>
            <p:nvPr/>
          </p:nvGrpSpPr>
          <p:grpSpPr>
            <a:xfrm>
              <a:off x="2163600" y="1870200"/>
              <a:ext cx="511200" cy="815040"/>
              <a:chOff x="2163600" y="1870200"/>
              <a:chExt cx="511200" cy="815040"/>
            </a:xfrm>
          </p:grpSpPr>
          <p:sp>
            <p:nvSpPr>
              <p:cNvPr id="1616" name="文本框 22587"/>
              <p:cNvSpPr/>
              <p:nvPr/>
            </p:nvSpPr>
            <p:spPr>
              <a:xfrm>
                <a:off x="2170080" y="22255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7" name="文本框 22588"/>
              <p:cNvSpPr/>
              <p:nvPr/>
            </p:nvSpPr>
            <p:spPr>
              <a:xfrm>
                <a:off x="2163600" y="18702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18" name="直接连接符 22589"/>
              <p:cNvSpPr/>
              <p:nvPr/>
            </p:nvSpPr>
            <p:spPr>
              <a:xfrm>
                <a:off x="2179440" y="228924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19" name="组合 22590"/>
            <p:cNvGrpSpPr/>
            <p:nvPr/>
          </p:nvGrpSpPr>
          <p:grpSpPr>
            <a:xfrm>
              <a:off x="2158920" y="2459160"/>
              <a:ext cx="511200" cy="815040"/>
              <a:chOff x="2158920" y="2459160"/>
              <a:chExt cx="511200" cy="815040"/>
            </a:xfrm>
          </p:grpSpPr>
          <p:sp>
            <p:nvSpPr>
              <p:cNvPr id="1620" name="文本框 22591"/>
              <p:cNvSpPr/>
              <p:nvPr/>
            </p:nvSpPr>
            <p:spPr>
              <a:xfrm>
                <a:off x="2165400" y="28144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1" name="文本框 22592"/>
              <p:cNvSpPr/>
              <p:nvPr/>
            </p:nvSpPr>
            <p:spPr>
              <a:xfrm>
                <a:off x="2158920" y="24591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2" name="直接连接符 22593"/>
              <p:cNvSpPr/>
              <p:nvPr/>
            </p:nvSpPr>
            <p:spPr>
              <a:xfrm>
                <a:off x="2174760" y="28782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23" name="组合 22594"/>
            <p:cNvGrpSpPr/>
            <p:nvPr/>
          </p:nvGrpSpPr>
          <p:grpSpPr>
            <a:xfrm>
              <a:off x="1782720" y="3071880"/>
              <a:ext cx="511200" cy="815040"/>
              <a:chOff x="1782720" y="3071880"/>
              <a:chExt cx="511200" cy="815040"/>
            </a:xfrm>
          </p:grpSpPr>
          <p:sp>
            <p:nvSpPr>
              <p:cNvPr id="1624" name="文本框 22595"/>
              <p:cNvSpPr/>
              <p:nvPr/>
            </p:nvSpPr>
            <p:spPr>
              <a:xfrm>
                <a:off x="1789200" y="3427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5" name="文本框 22596"/>
              <p:cNvSpPr/>
              <p:nvPr/>
            </p:nvSpPr>
            <p:spPr>
              <a:xfrm>
                <a:off x="1782720" y="3071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6" name="直接连接符 22597"/>
              <p:cNvSpPr/>
              <p:nvPr/>
            </p:nvSpPr>
            <p:spPr>
              <a:xfrm>
                <a:off x="1798560" y="34909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27" name="组合 22598"/>
            <p:cNvGrpSpPr/>
            <p:nvPr/>
          </p:nvGrpSpPr>
          <p:grpSpPr>
            <a:xfrm>
              <a:off x="2289240" y="3071880"/>
              <a:ext cx="511200" cy="815040"/>
              <a:chOff x="2289240" y="3071880"/>
              <a:chExt cx="511200" cy="815040"/>
            </a:xfrm>
          </p:grpSpPr>
          <p:sp>
            <p:nvSpPr>
              <p:cNvPr id="1628" name="文本框 22599"/>
              <p:cNvSpPr/>
              <p:nvPr/>
            </p:nvSpPr>
            <p:spPr>
              <a:xfrm>
                <a:off x="2295720" y="3427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29" name="文本框 22600"/>
              <p:cNvSpPr/>
              <p:nvPr/>
            </p:nvSpPr>
            <p:spPr>
              <a:xfrm>
                <a:off x="2289240" y="3071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0" name="直接连接符 22601"/>
              <p:cNvSpPr/>
              <p:nvPr/>
            </p:nvSpPr>
            <p:spPr>
              <a:xfrm>
                <a:off x="2305080" y="34909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31" name="组合 22602"/>
            <p:cNvGrpSpPr/>
            <p:nvPr/>
          </p:nvGrpSpPr>
          <p:grpSpPr>
            <a:xfrm>
              <a:off x="2997360" y="3075120"/>
              <a:ext cx="586800" cy="815040"/>
              <a:chOff x="2997360" y="3075120"/>
              <a:chExt cx="586800" cy="815040"/>
            </a:xfrm>
          </p:grpSpPr>
          <p:sp>
            <p:nvSpPr>
              <p:cNvPr id="1632" name="文本框 22603"/>
              <p:cNvSpPr/>
              <p:nvPr/>
            </p:nvSpPr>
            <p:spPr>
              <a:xfrm>
                <a:off x="3079440" y="34304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3" name="文本框 22604"/>
              <p:cNvSpPr/>
              <p:nvPr/>
            </p:nvSpPr>
            <p:spPr>
              <a:xfrm>
                <a:off x="2997360" y="3075120"/>
                <a:ext cx="580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4" name="直接连接符 22605"/>
              <p:cNvSpPr/>
              <p:nvPr/>
            </p:nvSpPr>
            <p:spPr>
              <a:xfrm>
                <a:off x="3060360" y="34938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35" name="组合 22606"/>
          <p:cNvGrpSpPr/>
          <p:nvPr/>
        </p:nvGrpSpPr>
        <p:grpSpPr>
          <a:xfrm>
            <a:off x="682560" y="5686560"/>
            <a:ext cx="3745080" cy="1104840"/>
            <a:chOff x="682560" y="5686560"/>
            <a:chExt cx="3745080" cy="1104840"/>
          </a:xfrm>
        </p:grpSpPr>
        <p:sp>
          <p:nvSpPr>
            <p:cNvPr id="1636" name="TextBox 136"/>
            <p:cNvSpPr/>
            <p:nvPr/>
          </p:nvSpPr>
          <p:spPr>
            <a:xfrm>
              <a:off x="682560" y="5783040"/>
              <a:ext cx="37450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②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“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”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求的是什么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两队合修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天的长度。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37" name="组合 22608"/>
            <p:cNvGrpSpPr/>
            <p:nvPr/>
          </p:nvGrpSpPr>
          <p:grpSpPr>
            <a:xfrm>
              <a:off x="1287360" y="5686560"/>
              <a:ext cx="511200" cy="815040"/>
              <a:chOff x="1287360" y="5686560"/>
              <a:chExt cx="511200" cy="815040"/>
            </a:xfrm>
          </p:grpSpPr>
          <p:sp>
            <p:nvSpPr>
              <p:cNvPr id="1638" name="文本框 22609"/>
              <p:cNvSpPr/>
              <p:nvPr/>
            </p:nvSpPr>
            <p:spPr>
              <a:xfrm>
                <a:off x="1293840" y="6041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39" name="文本框 22610"/>
              <p:cNvSpPr/>
              <p:nvPr/>
            </p:nvSpPr>
            <p:spPr>
              <a:xfrm>
                <a:off x="1287360" y="5686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0" name="直接连接符 22611"/>
              <p:cNvSpPr/>
              <p:nvPr/>
            </p:nvSpPr>
            <p:spPr>
              <a:xfrm>
                <a:off x="1303200" y="610560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41" name="组合 22612"/>
            <p:cNvGrpSpPr/>
            <p:nvPr/>
          </p:nvGrpSpPr>
          <p:grpSpPr>
            <a:xfrm>
              <a:off x="1795320" y="5690880"/>
              <a:ext cx="511200" cy="815040"/>
              <a:chOff x="1795320" y="5690880"/>
              <a:chExt cx="511200" cy="815040"/>
            </a:xfrm>
          </p:grpSpPr>
          <p:sp>
            <p:nvSpPr>
              <p:cNvPr id="1642" name="文本框 22613"/>
              <p:cNvSpPr/>
              <p:nvPr/>
            </p:nvSpPr>
            <p:spPr>
              <a:xfrm>
                <a:off x="1801800" y="6046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3" name="文本框 22614"/>
              <p:cNvSpPr/>
              <p:nvPr/>
            </p:nvSpPr>
            <p:spPr>
              <a:xfrm>
                <a:off x="1795320" y="56908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44" name="直接连接符 22615"/>
              <p:cNvSpPr/>
              <p:nvPr/>
            </p:nvSpPr>
            <p:spPr>
              <a:xfrm>
                <a:off x="1811160" y="6109920"/>
                <a:ext cx="2876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一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6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分析与解答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7" name="TextBox 135"/>
          <p:cNvSpPr/>
          <p:nvPr/>
        </p:nvSpPr>
        <p:spPr>
          <a:xfrm>
            <a:off x="114480" y="4286160"/>
            <a:ext cx="14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49" name="Rectangle 11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2" name="TextBox 136"/>
          <p:cNvSpPr/>
          <p:nvPr/>
        </p:nvSpPr>
        <p:spPr>
          <a:xfrm>
            <a:off x="826920" y="4292640"/>
            <a:ext cx="803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①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我们假设这条路的长度都不同，但最终的结果是相同的，那么这条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路的长度还可以看做是多少千米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4" name="TextBox 136"/>
          <p:cNvSpPr/>
          <p:nvPr/>
        </p:nvSpPr>
        <p:spPr>
          <a:xfrm>
            <a:off x="836640" y="5075280"/>
            <a:ext cx="795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②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条路的长度可以看做是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吗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5" name="TextBox 12"/>
          <p:cNvSpPr/>
          <p:nvPr/>
        </p:nvSpPr>
        <p:spPr>
          <a:xfrm>
            <a:off x="831960" y="5504040"/>
            <a:ext cx="738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③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如果把这条路的长度看做是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应该怎样解答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6" name="Text Box 45"/>
          <p:cNvSpPr/>
          <p:nvPr/>
        </p:nvSpPr>
        <p:spPr>
          <a:xfrm>
            <a:off x="455760" y="21304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57" name="Text Box 6"/>
          <p:cNvSpPr/>
          <p:nvPr/>
        </p:nvSpPr>
        <p:spPr>
          <a:xfrm>
            <a:off x="4572000" y="199692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预设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2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658" name="组合 23566"/>
          <p:cNvGrpSpPr/>
          <p:nvPr/>
        </p:nvGrpSpPr>
        <p:grpSpPr>
          <a:xfrm>
            <a:off x="960480" y="2612880"/>
            <a:ext cx="3671640" cy="1677240"/>
            <a:chOff x="960480" y="2612880"/>
            <a:chExt cx="3671640" cy="1677240"/>
          </a:xfrm>
        </p:grpSpPr>
        <p:sp>
          <p:nvSpPr>
            <p:cNvPr id="1659" name="Text Box 46"/>
            <p:cNvSpPr/>
            <p:nvPr/>
          </p:nvSpPr>
          <p:spPr>
            <a:xfrm>
              <a:off x="960480" y="2612880"/>
              <a:ext cx="3671640" cy="15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8÷1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.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8÷1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8÷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.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＝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天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60" name="组合 23568"/>
            <p:cNvGrpSpPr/>
            <p:nvPr/>
          </p:nvGrpSpPr>
          <p:grpSpPr>
            <a:xfrm>
              <a:off x="3074760" y="3475080"/>
              <a:ext cx="587520" cy="815040"/>
              <a:chOff x="3074760" y="3475080"/>
              <a:chExt cx="587520" cy="815040"/>
            </a:xfrm>
          </p:grpSpPr>
          <p:sp>
            <p:nvSpPr>
              <p:cNvPr id="1661" name="文本框 23569"/>
              <p:cNvSpPr/>
              <p:nvPr/>
            </p:nvSpPr>
            <p:spPr>
              <a:xfrm>
                <a:off x="3157200" y="383040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2" name="文本框 23570"/>
              <p:cNvSpPr/>
              <p:nvPr/>
            </p:nvSpPr>
            <p:spPr>
              <a:xfrm>
                <a:off x="3074760" y="3475080"/>
                <a:ext cx="58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3" name="直接连接符 23571"/>
              <p:cNvSpPr/>
              <p:nvPr/>
            </p:nvSpPr>
            <p:spPr>
              <a:xfrm>
                <a:off x="3138120" y="3893760"/>
                <a:ext cx="36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664" name="组合 23572"/>
          <p:cNvGrpSpPr/>
          <p:nvPr/>
        </p:nvGrpSpPr>
        <p:grpSpPr>
          <a:xfrm>
            <a:off x="5076720" y="2301840"/>
            <a:ext cx="3672000" cy="2058480"/>
            <a:chOff x="5076720" y="2301840"/>
            <a:chExt cx="3672000" cy="2058480"/>
          </a:xfrm>
        </p:grpSpPr>
        <p:sp>
          <p:nvSpPr>
            <p:cNvPr id="1665" name="Text Box 8"/>
            <p:cNvSpPr/>
            <p:nvPr/>
          </p:nvSpPr>
          <p:spPr>
            <a:xfrm>
              <a:off x="5076720" y="2417760"/>
              <a:ext cx="3672000" cy="178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÷1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÷18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30÷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    ＋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）＝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天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666" name="组合 23574"/>
            <p:cNvGrpSpPr/>
            <p:nvPr/>
          </p:nvGrpSpPr>
          <p:grpSpPr>
            <a:xfrm>
              <a:off x="6237360" y="2301840"/>
              <a:ext cx="511200" cy="815400"/>
              <a:chOff x="6237360" y="2301840"/>
              <a:chExt cx="511200" cy="815400"/>
            </a:xfrm>
          </p:grpSpPr>
          <p:sp>
            <p:nvSpPr>
              <p:cNvPr id="1667" name="文本框 23575"/>
              <p:cNvSpPr/>
              <p:nvPr/>
            </p:nvSpPr>
            <p:spPr>
              <a:xfrm>
                <a:off x="6243480" y="265752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8" name="文本框 23576"/>
              <p:cNvSpPr/>
              <p:nvPr/>
            </p:nvSpPr>
            <p:spPr>
              <a:xfrm>
                <a:off x="6237360" y="23018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69" name="直接连接符 23577"/>
              <p:cNvSpPr/>
              <p:nvPr/>
            </p:nvSpPr>
            <p:spPr>
              <a:xfrm>
                <a:off x="6281640" y="272124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70" name="组合 23578"/>
            <p:cNvGrpSpPr/>
            <p:nvPr/>
          </p:nvGrpSpPr>
          <p:grpSpPr>
            <a:xfrm>
              <a:off x="6246720" y="2919240"/>
              <a:ext cx="511200" cy="815400"/>
              <a:chOff x="6246720" y="2919240"/>
              <a:chExt cx="511200" cy="815400"/>
            </a:xfrm>
          </p:grpSpPr>
          <p:sp>
            <p:nvSpPr>
              <p:cNvPr id="1671" name="文本框 23579"/>
              <p:cNvSpPr/>
              <p:nvPr/>
            </p:nvSpPr>
            <p:spPr>
              <a:xfrm>
                <a:off x="6252840" y="327492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2" name="文本框 23580"/>
              <p:cNvSpPr/>
              <p:nvPr/>
            </p:nvSpPr>
            <p:spPr>
              <a:xfrm>
                <a:off x="6246720" y="29192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3" name="直接连接符 23581"/>
              <p:cNvSpPr/>
              <p:nvPr/>
            </p:nvSpPr>
            <p:spPr>
              <a:xfrm>
                <a:off x="6291000" y="333864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74" name="组合 23582"/>
            <p:cNvGrpSpPr/>
            <p:nvPr/>
          </p:nvGrpSpPr>
          <p:grpSpPr>
            <a:xfrm>
              <a:off x="5940360" y="3543120"/>
              <a:ext cx="511200" cy="815400"/>
              <a:chOff x="5940360" y="3543120"/>
              <a:chExt cx="511200" cy="815400"/>
            </a:xfrm>
          </p:grpSpPr>
          <p:sp>
            <p:nvSpPr>
              <p:cNvPr id="1675" name="文本框 23583"/>
              <p:cNvSpPr/>
              <p:nvPr/>
            </p:nvSpPr>
            <p:spPr>
              <a:xfrm>
                <a:off x="5946480" y="389880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6" name="文本框 23584"/>
              <p:cNvSpPr/>
              <p:nvPr/>
            </p:nvSpPr>
            <p:spPr>
              <a:xfrm>
                <a:off x="5940360" y="35431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77" name="直接连接符 23585"/>
              <p:cNvSpPr/>
              <p:nvPr/>
            </p:nvSpPr>
            <p:spPr>
              <a:xfrm>
                <a:off x="5984640" y="3962520"/>
                <a:ext cx="252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78" name="组合 23586"/>
            <p:cNvGrpSpPr/>
            <p:nvPr/>
          </p:nvGrpSpPr>
          <p:grpSpPr>
            <a:xfrm>
              <a:off x="6453360" y="3543120"/>
              <a:ext cx="510480" cy="815400"/>
              <a:chOff x="6453360" y="3543120"/>
              <a:chExt cx="510480" cy="815400"/>
            </a:xfrm>
          </p:grpSpPr>
          <p:sp>
            <p:nvSpPr>
              <p:cNvPr id="1679" name="文本框 23587"/>
              <p:cNvSpPr/>
              <p:nvPr/>
            </p:nvSpPr>
            <p:spPr>
              <a:xfrm>
                <a:off x="6459120" y="3898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0" name="文本框 23588"/>
              <p:cNvSpPr/>
              <p:nvPr/>
            </p:nvSpPr>
            <p:spPr>
              <a:xfrm>
                <a:off x="6453360" y="3543120"/>
                <a:ext cx="360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1" name="直接连接符 23589"/>
              <p:cNvSpPr/>
              <p:nvPr/>
            </p:nvSpPr>
            <p:spPr>
              <a:xfrm>
                <a:off x="6497280" y="3962520"/>
                <a:ext cx="252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682" name="组合 23590"/>
            <p:cNvGrpSpPr/>
            <p:nvPr/>
          </p:nvGrpSpPr>
          <p:grpSpPr>
            <a:xfrm>
              <a:off x="7149960" y="3544920"/>
              <a:ext cx="587520" cy="815400"/>
              <a:chOff x="7149960" y="3544920"/>
              <a:chExt cx="587520" cy="815400"/>
            </a:xfrm>
          </p:grpSpPr>
          <p:sp>
            <p:nvSpPr>
              <p:cNvPr id="1683" name="文本框 23591"/>
              <p:cNvSpPr/>
              <p:nvPr/>
            </p:nvSpPr>
            <p:spPr>
              <a:xfrm>
                <a:off x="7232400" y="3900600"/>
                <a:ext cx="50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4" name="文本框 23592"/>
              <p:cNvSpPr/>
              <p:nvPr/>
            </p:nvSpPr>
            <p:spPr>
              <a:xfrm>
                <a:off x="7149960" y="3544920"/>
                <a:ext cx="581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685" name="直接连接符 23593"/>
              <p:cNvSpPr/>
              <p:nvPr/>
            </p:nvSpPr>
            <p:spPr>
              <a:xfrm>
                <a:off x="7213320" y="3963960"/>
                <a:ext cx="3607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7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二）分析与解答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8" name="Text Box 12"/>
          <p:cNvSpPr/>
          <p:nvPr/>
        </p:nvSpPr>
        <p:spPr>
          <a:xfrm>
            <a:off x="900000" y="2563920"/>
            <a:ext cx="36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8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0" name="Rectangle 14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1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2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3" name="TextBox 135"/>
          <p:cNvSpPr/>
          <p:nvPr/>
        </p:nvSpPr>
        <p:spPr>
          <a:xfrm>
            <a:off x="-54000" y="370368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4" name="TextBox 136"/>
          <p:cNvSpPr/>
          <p:nvPr/>
        </p:nvSpPr>
        <p:spPr>
          <a:xfrm>
            <a:off x="595440" y="373212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①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这样列式的依据是什么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5" name="Rectangle 2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6" name="Rectangle 26"/>
          <p:cNvSpPr/>
          <p:nvPr/>
        </p:nvSpPr>
        <p:spPr>
          <a:xfrm>
            <a:off x="0" y="36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7" name="Text Box 87"/>
          <p:cNvSpPr/>
          <p:nvPr/>
        </p:nvSpPr>
        <p:spPr>
          <a:xfrm>
            <a:off x="6427800" y="2386080"/>
            <a:ext cx="8650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8" name="AutoShape 89"/>
          <p:cNvSpPr/>
          <p:nvPr/>
        </p:nvSpPr>
        <p:spPr>
          <a:xfrm rot="16200000">
            <a:off x="6730560" y="641160"/>
            <a:ext cx="144720" cy="4319640"/>
          </a:xfrm>
          <a:custGeom>
            <a:avLst/>
            <a:gdLst>
              <a:gd name="textAreaLeft" fmla="*/ 0 w 144720"/>
              <a:gd name="textAreaRight" fmla="*/ 52200 w 14472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699" name="Line 90"/>
          <p:cNvSpPr/>
          <p:nvPr/>
        </p:nvSpPr>
        <p:spPr>
          <a:xfrm>
            <a:off x="4641840" y="3448080"/>
            <a:ext cx="43210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0" name="Line 91"/>
          <p:cNvSpPr/>
          <p:nvPr/>
        </p:nvSpPr>
        <p:spPr>
          <a:xfrm>
            <a:off x="4641840" y="337644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1" name="Line 92"/>
          <p:cNvSpPr/>
          <p:nvPr/>
        </p:nvSpPr>
        <p:spPr>
          <a:xfrm>
            <a:off x="5002200" y="337644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2" name="Line 93"/>
          <p:cNvSpPr/>
          <p:nvPr/>
        </p:nvSpPr>
        <p:spPr>
          <a:xfrm>
            <a:off x="8953560" y="337644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3" name="AutoShape 94"/>
          <p:cNvSpPr/>
          <p:nvPr/>
        </p:nvSpPr>
        <p:spPr>
          <a:xfrm rot="16200000">
            <a:off x="4749120" y="3123000"/>
            <a:ext cx="144360" cy="358920"/>
          </a:xfrm>
          <a:custGeom>
            <a:avLst/>
            <a:gdLst>
              <a:gd name="textAreaLeft" fmla="*/ 0 w 144360"/>
              <a:gd name="textAreaRight" fmla="*/ 52200 w 144360"/>
              <a:gd name="textAreaTop" fmla="*/ 9360 h 358920"/>
              <a:gd name="textAreaBottom" fmla="*/ 34956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04" name="Object 95" descr=""/>
          <p:cNvPicPr/>
          <p:nvPr/>
        </p:nvPicPr>
        <p:blipFill>
          <a:blip r:embed="rId1"/>
          <a:stretch/>
        </p:blipFill>
        <p:spPr>
          <a:xfrm>
            <a:off x="4705200" y="2833560"/>
            <a:ext cx="238320" cy="414360"/>
          </a:xfrm>
          <a:prstGeom prst="rect">
            <a:avLst/>
          </a:prstGeom>
          <a:ln w="0">
            <a:noFill/>
          </a:ln>
        </p:spPr>
      </p:pic>
      <p:sp>
        <p:nvSpPr>
          <p:cNvPr id="1705" name="Line 96"/>
          <p:cNvSpPr/>
          <p:nvPr/>
        </p:nvSpPr>
        <p:spPr>
          <a:xfrm>
            <a:off x="4641840" y="4960800"/>
            <a:ext cx="432108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6" name="Line 97"/>
          <p:cNvSpPr/>
          <p:nvPr/>
        </p:nvSpPr>
        <p:spPr>
          <a:xfrm>
            <a:off x="4641840" y="488952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7" name="Line 98"/>
          <p:cNvSpPr/>
          <p:nvPr/>
        </p:nvSpPr>
        <p:spPr>
          <a:xfrm>
            <a:off x="8958240" y="488952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8" name="Line 99"/>
          <p:cNvSpPr/>
          <p:nvPr/>
        </p:nvSpPr>
        <p:spPr>
          <a:xfrm>
            <a:off x="4890960" y="488952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09" name="AutoShape 100"/>
          <p:cNvSpPr/>
          <p:nvPr/>
        </p:nvSpPr>
        <p:spPr>
          <a:xfrm rot="16200000">
            <a:off x="4692600" y="4695480"/>
            <a:ext cx="142920" cy="241560"/>
          </a:xfrm>
          <a:custGeom>
            <a:avLst/>
            <a:gdLst>
              <a:gd name="textAreaLeft" fmla="*/ 0 w 142920"/>
              <a:gd name="textAreaRight" fmla="*/ 51480 w 142920"/>
              <a:gd name="textAreaTop" fmla="*/ 6120 h 241560"/>
              <a:gd name="textAreaBottom" fmla="*/ 235440 h 241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10" name="Object 101" descr=""/>
          <p:cNvPicPr/>
          <p:nvPr/>
        </p:nvPicPr>
        <p:blipFill>
          <a:blip r:embed="rId2"/>
          <a:stretch/>
        </p:blipFill>
        <p:spPr>
          <a:xfrm>
            <a:off x="4641840" y="4265640"/>
            <a:ext cx="274680" cy="477720"/>
          </a:xfrm>
          <a:prstGeom prst="rect">
            <a:avLst/>
          </a:prstGeom>
          <a:ln w="0">
            <a:noFill/>
          </a:ln>
        </p:spPr>
      </p:pic>
      <p:sp>
        <p:nvSpPr>
          <p:cNvPr id="1711" name="AutoShape 102"/>
          <p:cNvSpPr/>
          <p:nvPr/>
        </p:nvSpPr>
        <p:spPr>
          <a:xfrm rot="16200000">
            <a:off x="6730920" y="2079360"/>
            <a:ext cx="144360" cy="4319640"/>
          </a:xfrm>
          <a:custGeom>
            <a:avLst/>
            <a:gdLst>
              <a:gd name="textAreaLeft" fmla="*/ 0 w 144360"/>
              <a:gd name="textAreaRight" fmla="*/ 52200 w 14436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2" name="Text Box 103"/>
          <p:cNvSpPr/>
          <p:nvPr/>
        </p:nvSpPr>
        <p:spPr>
          <a:xfrm>
            <a:off x="6357960" y="3786120"/>
            <a:ext cx="8650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3" name="Line 104"/>
          <p:cNvSpPr/>
          <p:nvPr/>
        </p:nvSpPr>
        <p:spPr>
          <a:xfrm>
            <a:off x="4643280" y="6473880"/>
            <a:ext cx="4321440" cy="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4" name="Line 105"/>
          <p:cNvSpPr/>
          <p:nvPr/>
        </p:nvSpPr>
        <p:spPr>
          <a:xfrm>
            <a:off x="5003640" y="640224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5" name="Line 106"/>
          <p:cNvSpPr/>
          <p:nvPr/>
        </p:nvSpPr>
        <p:spPr>
          <a:xfrm>
            <a:off x="8959680" y="640224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6" name="Line 107"/>
          <p:cNvSpPr/>
          <p:nvPr/>
        </p:nvSpPr>
        <p:spPr>
          <a:xfrm>
            <a:off x="5253120" y="640224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7" name="AutoShape 108"/>
          <p:cNvSpPr/>
          <p:nvPr/>
        </p:nvSpPr>
        <p:spPr>
          <a:xfrm rot="16200000">
            <a:off x="5053680" y="6208920"/>
            <a:ext cx="144360" cy="241200"/>
          </a:xfrm>
          <a:custGeom>
            <a:avLst/>
            <a:gdLst>
              <a:gd name="textAreaLeft" fmla="*/ 0 w 144360"/>
              <a:gd name="textAreaRight" fmla="*/ 52200 w 144360"/>
              <a:gd name="textAreaTop" fmla="*/ 6120 h 241200"/>
              <a:gd name="textAreaBottom" fmla="*/ 235080 h 241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8" name="Line 109"/>
          <p:cNvSpPr/>
          <p:nvPr/>
        </p:nvSpPr>
        <p:spPr>
          <a:xfrm>
            <a:off x="4643280" y="640224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19" name="AutoShape 110"/>
          <p:cNvSpPr/>
          <p:nvPr/>
        </p:nvSpPr>
        <p:spPr>
          <a:xfrm rot="16200000">
            <a:off x="4750560" y="6148800"/>
            <a:ext cx="144360" cy="358920"/>
          </a:xfrm>
          <a:custGeom>
            <a:avLst/>
            <a:gdLst>
              <a:gd name="textAreaLeft" fmla="*/ 0 w 144360"/>
              <a:gd name="textAreaRight" fmla="*/ 52200 w 144360"/>
              <a:gd name="textAreaTop" fmla="*/ 9360 h 358920"/>
              <a:gd name="textAreaBottom" fmla="*/ 34956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20" name="Object 111" descr=""/>
          <p:cNvPicPr/>
          <p:nvPr/>
        </p:nvPicPr>
        <p:blipFill>
          <a:blip r:embed="rId3"/>
          <a:stretch/>
        </p:blipFill>
        <p:spPr>
          <a:xfrm>
            <a:off x="4629240" y="5818320"/>
            <a:ext cx="398520" cy="477720"/>
          </a:xfrm>
          <a:prstGeom prst="rect">
            <a:avLst/>
          </a:prstGeom>
          <a:ln w="0">
            <a:noFill/>
          </a:ln>
        </p:spPr>
      </p:pic>
      <p:pic>
        <p:nvPicPr>
          <p:cNvPr id="1721" name="Object 112" descr=""/>
          <p:cNvPicPr/>
          <p:nvPr/>
        </p:nvPicPr>
        <p:blipFill>
          <a:blip r:embed="rId4"/>
          <a:stretch/>
        </p:blipFill>
        <p:spPr>
          <a:xfrm>
            <a:off x="4989600" y="5818320"/>
            <a:ext cx="274680" cy="477720"/>
          </a:xfrm>
          <a:prstGeom prst="rect">
            <a:avLst/>
          </a:prstGeom>
          <a:ln w="0">
            <a:noFill/>
          </a:ln>
        </p:spPr>
      </p:pic>
      <p:sp>
        <p:nvSpPr>
          <p:cNvPr id="1722" name="AutoShape 113"/>
          <p:cNvSpPr/>
          <p:nvPr/>
        </p:nvSpPr>
        <p:spPr>
          <a:xfrm rot="16200000">
            <a:off x="6730560" y="3620880"/>
            <a:ext cx="144720" cy="4319640"/>
          </a:xfrm>
          <a:custGeom>
            <a:avLst/>
            <a:gdLst>
              <a:gd name="textAreaLeft" fmla="*/ 0 w 144720"/>
              <a:gd name="textAreaRight" fmla="*/ 52200 w 14472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3" name="Text Box 114"/>
          <p:cNvSpPr/>
          <p:nvPr/>
        </p:nvSpPr>
        <p:spPr>
          <a:xfrm>
            <a:off x="6434280" y="5367240"/>
            <a:ext cx="8650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endParaRPr b="0" i="1" lang="en-US" sz="1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24" name="TextBox 136"/>
          <p:cNvSpPr/>
          <p:nvPr/>
        </p:nvSpPr>
        <p:spPr>
          <a:xfrm>
            <a:off x="-36360" y="4141800"/>
            <a:ext cx="54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       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工作总量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÷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工作效率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工作时间）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25" name="组合 24616"/>
          <p:cNvGrpSpPr/>
          <p:nvPr/>
        </p:nvGrpSpPr>
        <p:grpSpPr>
          <a:xfrm>
            <a:off x="684360" y="1979640"/>
            <a:ext cx="3240000" cy="1880280"/>
            <a:chOff x="684360" y="1979640"/>
            <a:chExt cx="3240000" cy="1880280"/>
          </a:xfrm>
        </p:grpSpPr>
        <p:sp>
          <p:nvSpPr>
            <p:cNvPr id="1726" name="Text Box 18"/>
            <p:cNvSpPr/>
            <p:nvPr/>
          </p:nvSpPr>
          <p:spPr>
            <a:xfrm>
              <a:off x="684360" y="2157120"/>
              <a:ext cx="3240000" cy="150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÷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（     ＋     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1÷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＝ 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天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27" name="组合 24618"/>
            <p:cNvGrpSpPr/>
            <p:nvPr/>
          </p:nvGrpSpPr>
          <p:grpSpPr>
            <a:xfrm>
              <a:off x="2327400" y="1989000"/>
              <a:ext cx="504720" cy="815400"/>
              <a:chOff x="2327400" y="1989000"/>
              <a:chExt cx="504720" cy="815400"/>
            </a:xfrm>
          </p:grpSpPr>
          <p:sp>
            <p:nvSpPr>
              <p:cNvPr id="1728" name="文本框 24619"/>
              <p:cNvSpPr/>
              <p:nvPr/>
            </p:nvSpPr>
            <p:spPr>
              <a:xfrm>
                <a:off x="2327400" y="23446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29" name="文本框 24620"/>
              <p:cNvSpPr/>
              <p:nvPr/>
            </p:nvSpPr>
            <p:spPr>
              <a:xfrm>
                <a:off x="2416320" y="19890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0" name="直接连接符 24621"/>
              <p:cNvSpPr/>
              <p:nvPr/>
            </p:nvSpPr>
            <p:spPr>
              <a:xfrm>
                <a:off x="2394000" y="24080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31" name="组合 24622"/>
            <p:cNvGrpSpPr/>
            <p:nvPr/>
          </p:nvGrpSpPr>
          <p:grpSpPr>
            <a:xfrm>
              <a:off x="1698840" y="1979640"/>
              <a:ext cx="504720" cy="815040"/>
              <a:chOff x="1698840" y="1979640"/>
              <a:chExt cx="504720" cy="815040"/>
            </a:xfrm>
          </p:grpSpPr>
          <p:sp>
            <p:nvSpPr>
              <p:cNvPr id="1732" name="文本框 24623"/>
              <p:cNvSpPr/>
              <p:nvPr/>
            </p:nvSpPr>
            <p:spPr>
              <a:xfrm>
                <a:off x="1698840" y="23349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3" name="文本框 24624"/>
              <p:cNvSpPr/>
              <p:nvPr/>
            </p:nvSpPr>
            <p:spPr>
              <a:xfrm>
                <a:off x="1787760" y="19796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4" name="直接连接符 24625"/>
              <p:cNvSpPr/>
              <p:nvPr/>
            </p:nvSpPr>
            <p:spPr>
              <a:xfrm>
                <a:off x="1765440" y="23983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35" name="组合 24626"/>
            <p:cNvGrpSpPr/>
            <p:nvPr/>
          </p:nvGrpSpPr>
          <p:grpSpPr>
            <a:xfrm>
              <a:off x="1463760" y="2498760"/>
              <a:ext cx="504720" cy="815040"/>
              <a:chOff x="1463760" y="2498760"/>
              <a:chExt cx="504720" cy="815040"/>
            </a:xfrm>
          </p:grpSpPr>
          <p:sp>
            <p:nvSpPr>
              <p:cNvPr id="1736" name="文本框 24627"/>
              <p:cNvSpPr/>
              <p:nvPr/>
            </p:nvSpPr>
            <p:spPr>
              <a:xfrm>
                <a:off x="1463760" y="28540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7" name="文本框 24628"/>
              <p:cNvSpPr/>
              <p:nvPr/>
            </p:nvSpPr>
            <p:spPr>
              <a:xfrm>
                <a:off x="1552680" y="24987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38" name="直接连接符 24629"/>
              <p:cNvSpPr/>
              <p:nvPr/>
            </p:nvSpPr>
            <p:spPr>
              <a:xfrm>
                <a:off x="1530360" y="29174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39" name="组合 24630"/>
            <p:cNvGrpSpPr/>
            <p:nvPr/>
          </p:nvGrpSpPr>
          <p:grpSpPr>
            <a:xfrm>
              <a:off x="1043280" y="3044520"/>
              <a:ext cx="586800" cy="815400"/>
              <a:chOff x="1043280" y="3044520"/>
              <a:chExt cx="586800" cy="815400"/>
            </a:xfrm>
          </p:grpSpPr>
          <p:sp>
            <p:nvSpPr>
              <p:cNvPr id="1740" name="文本框 24631"/>
              <p:cNvSpPr/>
              <p:nvPr/>
            </p:nvSpPr>
            <p:spPr>
              <a:xfrm>
                <a:off x="1125360" y="34002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5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1" name="文本框 24632"/>
              <p:cNvSpPr/>
              <p:nvPr/>
            </p:nvSpPr>
            <p:spPr>
              <a:xfrm>
                <a:off x="1043280" y="3044520"/>
                <a:ext cx="580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36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2" name="直接连接符 24633"/>
              <p:cNvSpPr/>
              <p:nvPr/>
            </p:nvSpPr>
            <p:spPr>
              <a:xfrm>
                <a:off x="1106280" y="34635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743" name="组合 24634"/>
          <p:cNvGrpSpPr/>
          <p:nvPr/>
        </p:nvGrpSpPr>
        <p:grpSpPr>
          <a:xfrm>
            <a:off x="469800" y="4384800"/>
            <a:ext cx="4357800" cy="1473120"/>
            <a:chOff x="469800" y="4384800"/>
            <a:chExt cx="4357800" cy="1473120"/>
          </a:xfrm>
        </p:grpSpPr>
        <p:sp>
          <p:nvSpPr>
            <p:cNvPr id="1744" name="TextBox 136"/>
            <p:cNvSpPr/>
            <p:nvPr/>
          </p:nvSpPr>
          <p:spPr>
            <a:xfrm>
              <a:off x="588960" y="4565880"/>
              <a:ext cx="35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求的是什么？     呢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45" name="TextBox 136"/>
            <p:cNvSpPr/>
            <p:nvPr/>
          </p:nvSpPr>
          <p:spPr>
            <a:xfrm>
              <a:off x="469800" y="5032440"/>
              <a:ext cx="4357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一队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天修完这条路的几分之几；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二队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天修完这条路的几分之几。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46" name="组合 24637"/>
            <p:cNvGrpSpPr/>
            <p:nvPr/>
          </p:nvGrpSpPr>
          <p:grpSpPr>
            <a:xfrm>
              <a:off x="909720" y="4408560"/>
              <a:ext cx="504720" cy="815400"/>
              <a:chOff x="909720" y="4408560"/>
              <a:chExt cx="504720" cy="815400"/>
            </a:xfrm>
          </p:grpSpPr>
          <p:sp>
            <p:nvSpPr>
              <p:cNvPr id="1747" name="文本框 24638"/>
              <p:cNvSpPr/>
              <p:nvPr/>
            </p:nvSpPr>
            <p:spPr>
              <a:xfrm>
                <a:off x="909720" y="476424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8" name="文本框 24639"/>
              <p:cNvSpPr/>
              <p:nvPr/>
            </p:nvSpPr>
            <p:spPr>
              <a:xfrm>
                <a:off x="998640" y="440856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49" name="直接连接符 24640"/>
              <p:cNvSpPr/>
              <p:nvPr/>
            </p:nvSpPr>
            <p:spPr>
              <a:xfrm>
                <a:off x="976320" y="482760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50" name="组合 24641"/>
            <p:cNvGrpSpPr/>
            <p:nvPr/>
          </p:nvGrpSpPr>
          <p:grpSpPr>
            <a:xfrm>
              <a:off x="2771640" y="4384800"/>
              <a:ext cx="504720" cy="815400"/>
              <a:chOff x="2771640" y="4384800"/>
              <a:chExt cx="504720" cy="815400"/>
            </a:xfrm>
          </p:grpSpPr>
          <p:sp>
            <p:nvSpPr>
              <p:cNvPr id="1751" name="文本框 24642"/>
              <p:cNvSpPr/>
              <p:nvPr/>
            </p:nvSpPr>
            <p:spPr>
              <a:xfrm>
                <a:off x="2771640" y="47404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2" name="文本框 24643"/>
              <p:cNvSpPr/>
              <p:nvPr/>
            </p:nvSpPr>
            <p:spPr>
              <a:xfrm>
                <a:off x="2860560" y="43848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3" name="直接连接符 24644"/>
              <p:cNvSpPr/>
              <p:nvPr/>
            </p:nvSpPr>
            <p:spPr>
              <a:xfrm>
                <a:off x="2838240" y="480384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754" name="组合 24645"/>
          <p:cNvGrpSpPr/>
          <p:nvPr/>
        </p:nvGrpSpPr>
        <p:grpSpPr>
          <a:xfrm>
            <a:off x="611280" y="5743440"/>
            <a:ext cx="3529080" cy="815400"/>
            <a:chOff x="611280" y="5743440"/>
            <a:chExt cx="3529080" cy="815400"/>
          </a:xfrm>
        </p:grpSpPr>
        <p:sp>
          <p:nvSpPr>
            <p:cNvPr id="1755" name="TextBox 136"/>
            <p:cNvSpPr/>
            <p:nvPr/>
          </p:nvSpPr>
          <p:spPr>
            <a:xfrm>
              <a:off x="611280" y="5910120"/>
              <a:ext cx="352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③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“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楷体_GB2312"/>
                </a:rPr>
                <a:t>＋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”求的是什么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56" name="组合 24647"/>
            <p:cNvGrpSpPr/>
            <p:nvPr/>
          </p:nvGrpSpPr>
          <p:grpSpPr>
            <a:xfrm>
              <a:off x="1144440" y="5743440"/>
              <a:ext cx="504720" cy="815400"/>
              <a:chOff x="1144440" y="5743440"/>
              <a:chExt cx="504720" cy="815400"/>
            </a:xfrm>
          </p:grpSpPr>
          <p:sp>
            <p:nvSpPr>
              <p:cNvPr id="1757" name="文本框 24648"/>
              <p:cNvSpPr/>
              <p:nvPr/>
            </p:nvSpPr>
            <p:spPr>
              <a:xfrm>
                <a:off x="1144440" y="60991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8" name="文本框 24649"/>
              <p:cNvSpPr/>
              <p:nvPr/>
            </p:nvSpPr>
            <p:spPr>
              <a:xfrm>
                <a:off x="1233360" y="5743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59" name="直接连接符 24650"/>
              <p:cNvSpPr/>
              <p:nvPr/>
            </p:nvSpPr>
            <p:spPr>
              <a:xfrm>
                <a:off x="1211040" y="61624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760" name="组合 24651"/>
            <p:cNvGrpSpPr/>
            <p:nvPr/>
          </p:nvGrpSpPr>
          <p:grpSpPr>
            <a:xfrm>
              <a:off x="1735200" y="5743440"/>
              <a:ext cx="504720" cy="815400"/>
              <a:chOff x="1735200" y="5743440"/>
              <a:chExt cx="504720" cy="815400"/>
            </a:xfrm>
          </p:grpSpPr>
          <p:sp>
            <p:nvSpPr>
              <p:cNvPr id="1761" name="文本框 24652"/>
              <p:cNvSpPr/>
              <p:nvPr/>
            </p:nvSpPr>
            <p:spPr>
              <a:xfrm>
                <a:off x="1735200" y="60991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8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2" name="文本框 24653"/>
              <p:cNvSpPr/>
              <p:nvPr/>
            </p:nvSpPr>
            <p:spPr>
              <a:xfrm>
                <a:off x="1824120" y="57434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63" name="直接连接符 24654"/>
              <p:cNvSpPr/>
              <p:nvPr/>
            </p:nvSpPr>
            <p:spPr>
              <a:xfrm>
                <a:off x="1801800" y="61624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1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1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1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6" name="Rectangle 4"/>
          <p:cNvSpPr/>
          <p:nvPr/>
        </p:nvSpPr>
        <p:spPr>
          <a:xfrm>
            <a:off x="0" y="3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6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0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（二）分析与解答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1" name="Text Box 93"/>
          <p:cNvSpPr/>
          <p:nvPr/>
        </p:nvSpPr>
        <p:spPr>
          <a:xfrm>
            <a:off x="108000" y="486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2" name="Text Box 97"/>
          <p:cNvSpPr/>
          <p:nvPr/>
        </p:nvSpPr>
        <p:spPr>
          <a:xfrm>
            <a:off x="919080" y="6040440"/>
            <a:ext cx="80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② 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为什么我们假设这条路的长度不同，但最终的结果是相同的呢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3" name="Text Box 87"/>
          <p:cNvSpPr/>
          <p:nvPr/>
        </p:nvSpPr>
        <p:spPr>
          <a:xfrm>
            <a:off x="3693960" y="2382840"/>
            <a:ext cx="86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4" name="AutoShape 89"/>
          <p:cNvSpPr/>
          <p:nvPr/>
        </p:nvSpPr>
        <p:spPr>
          <a:xfrm rot="16200000">
            <a:off x="4067280" y="693360"/>
            <a:ext cx="144360" cy="4319640"/>
          </a:xfrm>
          <a:custGeom>
            <a:avLst/>
            <a:gdLst>
              <a:gd name="textAreaLeft" fmla="*/ 0 w 144360"/>
              <a:gd name="textAreaRight" fmla="*/ 52200 w 144360"/>
              <a:gd name="textAreaTop" fmla="*/ 112320 h 4319640"/>
              <a:gd name="textAreaBottom" fmla="*/ 4207320 h 43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75" name="Line 92"/>
          <p:cNvSpPr/>
          <p:nvPr/>
        </p:nvSpPr>
        <p:spPr>
          <a:xfrm>
            <a:off x="2325600" y="350028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76" name="组合 38"/>
          <p:cNvGrpSpPr/>
          <p:nvPr/>
        </p:nvGrpSpPr>
        <p:grpSpPr>
          <a:xfrm>
            <a:off x="1965240" y="3508200"/>
            <a:ext cx="4321440" cy="71640"/>
            <a:chOff x="1965240" y="3508200"/>
            <a:chExt cx="4321440" cy="71640"/>
          </a:xfrm>
        </p:grpSpPr>
        <p:sp>
          <p:nvSpPr>
            <p:cNvPr id="1777" name="Line 90"/>
            <p:cNvSpPr/>
            <p:nvPr/>
          </p:nvSpPr>
          <p:spPr>
            <a:xfrm>
              <a:off x="1965240" y="3579840"/>
              <a:ext cx="432144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78" name="Line 91"/>
            <p:cNvSpPr/>
            <p:nvPr/>
          </p:nvSpPr>
          <p:spPr>
            <a:xfrm>
              <a:off x="1965240" y="3508200"/>
              <a:ext cx="0" cy="71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779" name="Line 93"/>
            <p:cNvSpPr/>
            <p:nvPr/>
          </p:nvSpPr>
          <p:spPr>
            <a:xfrm>
              <a:off x="6286680" y="3508200"/>
              <a:ext cx="0" cy="716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1780" name="AutoShape 94"/>
          <p:cNvSpPr/>
          <p:nvPr/>
        </p:nvSpPr>
        <p:spPr>
          <a:xfrm rot="16200000">
            <a:off x="2072520" y="3248280"/>
            <a:ext cx="144360" cy="358920"/>
          </a:xfrm>
          <a:custGeom>
            <a:avLst/>
            <a:gdLst>
              <a:gd name="textAreaLeft" fmla="*/ 0 w 144360"/>
              <a:gd name="textAreaRight" fmla="*/ 52200 w 144360"/>
              <a:gd name="textAreaTop" fmla="*/ 9360 h 358920"/>
              <a:gd name="textAreaBottom" fmla="*/ 34956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81" name="AutoShape 89" descr=""/>
          <p:cNvPicPr/>
          <p:nvPr/>
        </p:nvPicPr>
        <p:blipFill>
          <a:blip r:embed="rId1"/>
          <a:stretch/>
        </p:blipFill>
        <p:spPr>
          <a:xfrm>
            <a:off x="1962000" y="4076640"/>
            <a:ext cx="4329360" cy="366840"/>
          </a:xfrm>
          <a:prstGeom prst="rect">
            <a:avLst/>
          </a:prstGeom>
          <a:ln w="0">
            <a:noFill/>
          </a:ln>
        </p:spPr>
      </p:pic>
      <p:pic>
        <p:nvPicPr>
          <p:cNvPr id="1782" name="AutoShape 94" descr=""/>
          <p:cNvPicPr/>
          <p:nvPr/>
        </p:nvPicPr>
        <p:blipFill>
          <a:blip r:embed="rId2"/>
          <a:stretch/>
        </p:blipFill>
        <p:spPr>
          <a:xfrm>
            <a:off x="1963800" y="3652920"/>
            <a:ext cx="368280" cy="156960"/>
          </a:xfrm>
          <a:prstGeom prst="rect">
            <a:avLst/>
          </a:prstGeom>
          <a:ln w="0">
            <a:noFill/>
          </a:ln>
        </p:spPr>
      </p:pic>
      <p:sp>
        <p:nvSpPr>
          <p:cNvPr id="1783" name="Text Box 87"/>
          <p:cNvSpPr/>
          <p:nvPr/>
        </p:nvSpPr>
        <p:spPr>
          <a:xfrm>
            <a:off x="1592280" y="3792600"/>
            <a:ext cx="9158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.5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m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4" name="Line 91"/>
          <p:cNvSpPr/>
          <p:nvPr/>
        </p:nvSpPr>
        <p:spPr>
          <a:xfrm>
            <a:off x="1967040" y="357336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5" name="Line 91"/>
          <p:cNvSpPr/>
          <p:nvPr/>
        </p:nvSpPr>
        <p:spPr>
          <a:xfrm>
            <a:off x="2319480" y="3571920"/>
            <a:ext cx="0" cy="7128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6" name="Text Box 87"/>
          <p:cNvSpPr/>
          <p:nvPr/>
        </p:nvSpPr>
        <p:spPr>
          <a:xfrm>
            <a:off x="3706920" y="42148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18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m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7" name="Line 91"/>
          <p:cNvSpPr/>
          <p:nvPr/>
        </p:nvSpPr>
        <p:spPr>
          <a:xfrm>
            <a:off x="2627280" y="350028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8" name="Line 91"/>
          <p:cNvSpPr/>
          <p:nvPr/>
        </p:nvSpPr>
        <p:spPr>
          <a:xfrm>
            <a:off x="2630520" y="3576600"/>
            <a:ext cx="0" cy="71640"/>
          </a:xfrm>
          <a:prstGeom prst="line">
            <a:avLst/>
          </a:prstGeom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789" name="AutoShape 100"/>
          <p:cNvSpPr/>
          <p:nvPr/>
        </p:nvSpPr>
        <p:spPr>
          <a:xfrm rot="16200000">
            <a:off x="2411280" y="3285720"/>
            <a:ext cx="144360" cy="287280"/>
          </a:xfrm>
          <a:custGeom>
            <a:avLst/>
            <a:gdLst>
              <a:gd name="textAreaLeft" fmla="*/ 0 w 144360"/>
              <a:gd name="textAreaRight" fmla="*/ 52200 w 144360"/>
              <a:gd name="textAreaTop" fmla="*/ 7200 h 287280"/>
              <a:gd name="textAreaBottom" fmla="*/ 2800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90" name="Object 101" descr=""/>
          <p:cNvPicPr/>
          <p:nvPr/>
        </p:nvPicPr>
        <p:blipFill>
          <a:blip r:embed="rId3"/>
          <a:stretch/>
        </p:blipFill>
        <p:spPr>
          <a:xfrm>
            <a:off x="2349360" y="2898720"/>
            <a:ext cx="276480" cy="477720"/>
          </a:xfrm>
          <a:prstGeom prst="rect">
            <a:avLst/>
          </a:prstGeom>
          <a:ln w="0">
            <a:noFill/>
          </a:ln>
        </p:spPr>
      </p:pic>
      <p:pic>
        <p:nvPicPr>
          <p:cNvPr id="1791" name="AutoShape 100" descr=""/>
          <p:cNvPicPr/>
          <p:nvPr/>
        </p:nvPicPr>
        <p:blipFill>
          <a:blip r:embed="rId4"/>
          <a:stretch/>
        </p:blipFill>
        <p:spPr>
          <a:xfrm>
            <a:off x="2298600" y="3662280"/>
            <a:ext cx="365400" cy="157320"/>
          </a:xfrm>
          <a:prstGeom prst="rect">
            <a:avLst/>
          </a:prstGeom>
          <a:ln w="0">
            <a:noFill/>
          </a:ln>
        </p:spPr>
      </p:pic>
      <p:sp>
        <p:nvSpPr>
          <p:cNvPr id="1792" name="Text Box 87"/>
          <p:cNvSpPr/>
          <p:nvPr/>
        </p:nvSpPr>
        <p:spPr>
          <a:xfrm>
            <a:off x="2282760" y="3792600"/>
            <a:ext cx="916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km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793" name="Object 101" descr=""/>
          <p:cNvPicPr/>
          <p:nvPr/>
        </p:nvPicPr>
        <p:blipFill>
          <a:blip r:embed="rId5"/>
          <a:stretch/>
        </p:blipFill>
        <p:spPr>
          <a:xfrm>
            <a:off x="2003400" y="2892600"/>
            <a:ext cx="274680" cy="477720"/>
          </a:xfrm>
          <a:prstGeom prst="rect">
            <a:avLst/>
          </a:prstGeom>
          <a:ln w="0">
            <a:noFill/>
          </a:ln>
        </p:spPr>
      </p:pic>
      <p:sp>
        <p:nvSpPr>
          <p:cNvPr id="1794" name="Oval 37"/>
          <p:cNvSpPr/>
          <p:nvPr/>
        </p:nvSpPr>
        <p:spPr>
          <a:xfrm>
            <a:off x="1908000" y="2852640"/>
            <a:ext cx="432000" cy="129708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795" name="组合 25632"/>
          <p:cNvGrpSpPr/>
          <p:nvPr/>
        </p:nvGrpSpPr>
        <p:grpSpPr>
          <a:xfrm>
            <a:off x="900000" y="4724280"/>
            <a:ext cx="8244000" cy="1399320"/>
            <a:chOff x="900000" y="4724280"/>
            <a:chExt cx="8244000" cy="1399320"/>
          </a:xfrm>
        </p:grpSpPr>
        <p:sp>
          <p:nvSpPr>
            <p:cNvPr id="1796" name="Text Box 95"/>
            <p:cNvSpPr/>
            <p:nvPr/>
          </p:nvSpPr>
          <p:spPr>
            <a:xfrm>
              <a:off x="900000" y="4932360"/>
              <a:ext cx="82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① “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5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和        ”都在表示一队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天修的长度，有什么不一样呢？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（都是在表示一队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天的工作量，一个是具体数量，一个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天的工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作量占这条路的几分之几。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797" name="组合 25634"/>
            <p:cNvGrpSpPr/>
            <p:nvPr/>
          </p:nvGrpSpPr>
          <p:grpSpPr>
            <a:xfrm>
              <a:off x="2558880" y="4724280"/>
              <a:ext cx="522000" cy="815400"/>
              <a:chOff x="2558880" y="4724280"/>
              <a:chExt cx="522000" cy="815400"/>
            </a:xfrm>
          </p:grpSpPr>
          <p:sp>
            <p:nvSpPr>
              <p:cNvPr id="1798" name="文本框 25635"/>
              <p:cNvSpPr/>
              <p:nvPr/>
            </p:nvSpPr>
            <p:spPr>
              <a:xfrm>
                <a:off x="2558880" y="5079960"/>
                <a:ext cx="522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799" name="文本框 25636"/>
              <p:cNvSpPr/>
              <p:nvPr/>
            </p:nvSpPr>
            <p:spPr>
              <a:xfrm>
                <a:off x="2650680" y="4724280"/>
                <a:ext cx="372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宋体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00" name="直接连接符 25637"/>
              <p:cNvSpPr/>
              <p:nvPr/>
            </p:nvSpPr>
            <p:spPr>
              <a:xfrm>
                <a:off x="2627640" y="5143320"/>
                <a:ext cx="372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7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7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4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9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7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2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Rectangle 2"/>
          <p:cNvSpPr/>
          <p:nvPr/>
        </p:nvSpPr>
        <p:spPr>
          <a:xfrm>
            <a:off x="512640" y="35712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一、引入情境，探究新知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2" name="Rectangle 2"/>
          <p:cNvSpPr/>
          <p:nvPr/>
        </p:nvSpPr>
        <p:spPr>
          <a:xfrm>
            <a:off x="357120" y="1484280"/>
            <a:ext cx="35974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（三）回顾与反思</a:t>
            </a:r>
            <a:endParaRPr b="0" i="1" lang="en-US" sz="3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3" name="TextBox 8"/>
          <p:cNvSpPr/>
          <p:nvPr/>
        </p:nvSpPr>
        <p:spPr>
          <a:xfrm>
            <a:off x="214200" y="231624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问题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4" name="TextBox 10"/>
          <p:cNvSpPr/>
          <p:nvPr/>
        </p:nvSpPr>
        <p:spPr>
          <a:xfrm>
            <a:off x="1000080" y="231300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我们把道路假设成不同的长度，得出了相同的结果，这个结果对吗？可以怎样检验？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1805" name="Object 26" descr=""/>
          <p:cNvPicPr/>
          <p:nvPr/>
        </p:nvPicPr>
        <p:blipFill>
          <a:blip r:embed="rId1"/>
          <a:stretch/>
        </p:blipFill>
        <p:spPr>
          <a:xfrm>
            <a:off x="4514760" y="2928960"/>
            <a:ext cx="114480" cy="216000"/>
          </a:xfrm>
          <a:prstGeom prst="rect">
            <a:avLst/>
          </a:prstGeom>
          <a:ln w="0">
            <a:noFill/>
          </a:ln>
        </p:spPr>
      </p:pic>
      <p:sp>
        <p:nvSpPr>
          <p:cNvPr id="1806" name="TextBox 8"/>
          <p:cNvSpPr/>
          <p:nvPr/>
        </p:nvSpPr>
        <p:spPr>
          <a:xfrm>
            <a:off x="214200" y="49752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小结：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07" name="TextBox 10"/>
          <p:cNvSpPr/>
          <p:nvPr/>
        </p:nvSpPr>
        <p:spPr>
          <a:xfrm>
            <a:off x="1000080" y="500076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不管假设这条道路的长度是多少，答案都是相同的，把这条路的长度假设成是单位“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1</a:t>
            </a: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”</a:t>
            </a:r>
            <a:r>
              <a:rPr b="0" i="1" lang="zh-CN" sz="20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，在计算时是比较简便的。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1808" name="组合 26632"/>
          <p:cNvGrpSpPr/>
          <p:nvPr/>
        </p:nvGrpSpPr>
        <p:grpSpPr>
          <a:xfrm>
            <a:off x="142920" y="3000240"/>
            <a:ext cx="4573440" cy="1655280"/>
            <a:chOff x="142920" y="3000240"/>
            <a:chExt cx="4573440" cy="1655280"/>
          </a:xfrm>
        </p:grpSpPr>
        <p:sp>
          <p:nvSpPr>
            <p:cNvPr id="1809" name="TextBox 12"/>
            <p:cNvSpPr/>
            <p:nvPr/>
          </p:nvSpPr>
          <p:spPr>
            <a:xfrm>
              <a:off x="142920" y="3000240"/>
              <a:ext cx="176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10" name="TextBox 14"/>
            <p:cNvSpPr/>
            <p:nvPr/>
          </p:nvSpPr>
          <p:spPr>
            <a:xfrm>
              <a:off x="357120" y="3537000"/>
              <a:ext cx="435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看看这条路的      是不是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5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楷体_GB2312"/>
                </a:rPr>
                <a:t>km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11" name="TextBox 25"/>
            <p:cNvSpPr/>
            <p:nvPr/>
          </p:nvSpPr>
          <p:spPr>
            <a:xfrm>
              <a:off x="785880" y="4019400"/>
              <a:ext cx="371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8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×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＝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5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（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Times New Roman"/>
                  <a:ea typeface="宋体"/>
                </a:rPr>
                <a:t>km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）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12" name="组合 26636"/>
            <p:cNvGrpSpPr/>
            <p:nvPr/>
          </p:nvGrpSpPr>
          <p:grpSpPr>
            <a:xfrm>
              <a:off x="1974960" y="3367080"/>
              <a:ext cx="504720" cy="815400"/>
              <a:chOff x="1974960" y="3367080"/>
              <a:chExt cx="504720" cy="815400"/>
            </a:xfrm>
          </p:grpSpPr>
          <p:sp>
            <p:nvSpPr>
              <p:cNvPr id="1813" name="文本框 26637"/>
              <p:cNvSpPr/>
              <p:nvPr/>
            </p:nvSpPr>
            <p:spPr>
              <a:xfrm>
                <a:off x="1974960" y="372276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14" name="文本框 26638"/>
              <p:cNvSpPr/>
              <p:nvPr/>
            </p:nvSpPr>
            <p:spPr>
              <a:xfrm>
                <a:off x="2063880" y="336708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15" name="直接连接符 26639"/>
              <p:cNvSpPr/>
              <p:nvPr/>
            </p:nvSpPr>
            <p:spPr>
              <a:xfrm>
                <a:off x="2041560" y="378612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16" name="组合 26640"/>
            <p:cNvGrpSpPr/>
            <p:nvPr/>
          </p:nvGrpSpPr>
          <p:grpSpPr>
            <a:xfrm>
              <a:off x="1351080" y="3840120"/>
              <a:ext cx="504720" cy="815400"/>
              <a:chOff x="1351080" y="3840120"/>
              <a:chExt cx="504720" cy="815400"/>
            </a:xfrm>
          </p:grpSpPr>
          <p:sp>
            <p:nvSpPr>
              <p:cNvPr id="1817" name="文本框 26641"/>
              <p:cNvSpPr/>
              <p:nvPr/>
            </p:nvSpPr>
            <p:spPr>
              <a:xfrm>
                <a:off x="1351080" y="419580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18" name="文本框 26642"/>
              <p:cNvSpPr/>
              <p:nvPr/>
            </p:nvSpPr>
            <p:spPr>
              <a:xfrm>
                <a:off x="1440000" y="384012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19" name="直接连接符 26643"/>
              <p:cNvSpPr/>
              <p:nvPr/>
            </p:nvSpPr>
            <p:spPr>
              <a:xfrm>
                <a:off x="1417680" y="425916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grpSp>
        <p:nvGrpSpPr>
          <p:cNvPr id="1820" name="组合 26644"/>
          <p:cNvGrpSpPr/>
          <p:nvPr/>
        </p:nvGrpSpPr>
        <p:grpSpPr>
          <a:xfrm>
            <a:off x="4572000" y="3036960"/>
            <a:ext cx="4349520" cy="1599480"/>
            <a:chOff x="4572000" y="3036960"/>
            <a:chExt cx="4349520" cy="1599480"/>
          </a:xfrm>
        </p:grpSpPr>
        <p:sp>
          <p:nvSpPr>
            <p:cNvPr id="1821" name="TextBox 16"/>
            <p:cNvSpPr/>
            <p:nvPr/>
          </p:nvSpPr>
          <p:spPr>
            <a:xfrm>
              <a:off x="4572000" y="3036960"/>
              <a:ext cx="165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预设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2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：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22" name="TextBox 20"/>
            <p:cNvSpPr/>
            <p:nvPr/>
          </p:nvSpPr>
          <p:spPr>
            <a:xfrm>
              <a:off x="4857840" y="3494160"/>
              <a:ext cx="40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看看一队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宋体"/>
                  <a:ea typeface="宋体"/>
                </a:rPr>
                <a:t>天修的是不是全长的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1823" name="TextBox 21"/>
            <p:cNvSpPr/>
            <p:nvPr/>
          </p:nvSpPr>
          <p:spPr>
            <a:xfrm>
              <a:off x="4572000" y="4005360"/>
              <a:ext cx="371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                 </a:t>
              </a:r>
              <a:r>
                <a:rPr b="0" i="1" lang="en-US" sz="2000" spc="-1" strike="noStrike" u="sng">
                  <a:solidFill>
                    <a:srgbClr val="000000"/>
                  </a:solidFill>
                  <a:uFillTx/>
                  <a:latin typeface="Arial"/>
                  <a:ea typeface="宋体"/>
                </a:rPr>
                <a:t>1.5÷18 </a:t>
              </a:r>
              <a:r>
                <a:rPr b="0" i="1" lang="zh-CN" sz="2000" spc="-1" strike="noStrike" u="sng">
                  <a:solidFill>
                    <a:srgbClr val="000000"/>
                  </a:solidFill>
                  <a:uFillTx/>
                  <a:latin typeface="楷体_GB2312"/>
                  <a:ea typeface="宋体"/>
                </a:rPr>
                <a:t>＝</a:t>
              </a:r>
              <a:endParaRPr b="0" i="1" lang="en-US" sz="20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grpSp>
          <p:nvGrpSpPr>
            <p:cNvPr id="1824" name="组合 26648"/>
            <p:cNvGrpSpPr/>
            <p:nvPr/>
          </p:nvGrpSpPr>
          <p:grpSpPr>
            <a:xfrm>
              <a:off x="8416800" y="3322800"/>
              <a:ext cx="504720" cy="815040"/>
              <a:chOff x="8416800" y="3322800"/>
              <a:chExt cx="504720" cy="815040"/>
            </a:xfrm>
          </p:grpSpPr>
          <p:sp>
            <p:nvSpPr>
              <p:cNvPr id="1825" name="文本框 26649"/>
              <p:cNvSpPr/>
              <p:nvPr/>
            </p:nvSpPr>
            <p:spPr>
              <a:xfrm>
                <a:off x="8416800" y="36781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26" name="文本框 26650"/>
              <p:cNvSpPr/>
              <p:nvPr/>
            </p:nvSpPr>
            <p:spPr>
              <a:xfrm>
                <a:off x="8505720" y="332280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27" name="直接连接符 26651"/>
              <p:cNvSpPr/>
              <p:nvPr/>
            </p:nvSpPr>
            <p:spPr>
              <a:xfrm>
                <a:off x="8483400" y="37414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1828" name="组合 26652"/>
            <p:cNvGrpSpPr/>
            <p:nvPr/>
          </p:nvGrpSpPr>
          <p:grpSpPr>
            <a:xfrm>
              <a:off x="7074000" y="3821040"/>
              <a:ext cx="504720" cy="815400"/>
              <a:chOff x="7074000" y="3821040"/>
              <a:chExt cx="504720" cy="815400"/>
            </a:xfrm>
          </p:grpSpPr>
          <p:sp>
            <p:nvSpPr>
              <p:cNvPr id="1829" name="文本框 26653"/>
              <p:cNvSpPr/>
              <p:nvPr/>
            </p:nvSpPr>
            <p:spPr>
              <a:xfrm>
                <a:off x="7074000" y="417672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2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0" name="文本框 26654"/>
              <p:cNvSpPr/>
              <p:nvPr/>
            </p:nvSpPr>
            <p:spPr>
              <a:xfrm>
                <a:off x="7162920" y="3821040"/>
                <a:ext cx="360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 u="sng">
                    <a:solidFill>
                      <a:srgbClr val="000000"/>
                    </a:solidFill>
                    <a:uFillTx/>
                    <a:latin typeface="Arial"/>
                    <a:ea typeface="楷体_GB2312"/>
                  </a:rPr>
                  <a:t>1</a:t>
                </a:r>
                <a:endParaRPr b="0" i="1" lang="en-US" sz="20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1831" name="直接连接符 26655"/>
              <p:cNvSpPr/>
              <p:nvPr/>
            </p:nvSpPr>
            <p:spPr>
              <a:xfrm>
                <a:off x="7140600" y="4240080"/>
                <a:ext cx="3603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4" dur="5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4" dur="5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/>
  <dc:description/>
  <dc:language>en-US</dc:language>
  <cp:lastModifiedBy>万润仪器贸易公司</cp:lastModifiedBy>
  <dcterms:modified xsi:type="dcterms:W3CDTF">2020-08-21T09:36:13Z</dcterms:modified>
  <cp:revision>31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